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93B6-1936-4B91-AD4F-D61A39B49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F335-7131-4717-83F3-7BD1E42FC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D76D-868E-43D4-BA13-AAB6B15DD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A64F-E86F-4E3A-996D-1789E8A66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6252-A8E5-4681-89F5-3B18E0977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0D08-0B3F-43A5-A0F2-76405CE6C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94D9-C945-487B-9BC8-86BFB1D00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116D-3FAB-46AE-AA48-C9E57708C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B900-1902-418C-B3A9-71052113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65AF-E015-47E9-B739-B6F528D8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0750-901A-456F-AB14-34929FD68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6990-08C5-4DF4-A213-9D29C34D7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9408-DC25-47B3-968B-FDD6D728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95F5-63D2-4305-ABC0-C704CEF8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0664-BAC7-4F43-ABF8-83E2DF67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015E-D540-4D07-AD48-7DF53C8D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103F-14CC-4DE9-9389-CE759658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A19E-D12F-4806-B6C3-FF4EEAFA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9894-FDF7-445E-BAFB-4EA5A568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4E56-8770-4D14-839E-9D0471C7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C35A-AE5D-4E8D-8AA7-6A02F8241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2592000" y="685800"/>
            <a:ext cx="41569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s You May En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Deltora 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Twi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The W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Ella Ench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Harry Po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Phantom Tollbo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tora Quest: By Emily Rod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666880" y="1981080"/>
            <a:ext cx="3525840" cy="48769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7006320" y="59403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87440" y="280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ish: Gail Carson Lev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3530520" cy="50799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>
            <a:hlinkClick r:id="" action="ppaction://hlinkshowjump?jump=firstslide"/>
          </p:cNvPr>
          <p:cNvSpPr/>
          <p:nvPr/>
        </p:nvSpPr>
        <p:spPr>
          <a:xfrm>
            <a:off x="6912720" y="57913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ilight: Stephenie Meyer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2692440" y="1676520"/>
            <a:ext cx="3403440" cy="51051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6914160" y="57164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05280" y="609120"/>
            <a:ext cx="944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la Enchanted:By Gail Carson Lev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2944800" y="1905120"/>
            <a:ext cx="3075120" cy="46479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7006320" y="55306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ry Potter: J.K. Row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3594240" cy="51051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7398360" y="53816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hantom Tollbooth: Norton J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343320" cy="51055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7006320" y="53244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4:57:18Z</dcterms:created>
  <dc:creator>MTL Admin</dc:creator>
  <dc:description/>
  <dc:language>en-US</dc:language>
  <cp:lastModifiedBy>MTL Admin</cp:lastModifiedBy>
  <dcterms:modified xsi:type="dcterms:W3CDTF">2009-12-15T15:17:40Z</dcterms:modified>
  <cp:revision>3</cp:revision>
  <dc:subject/>
  <dc:title>PowerPoint Presentation</dc:title>
</cp:coreProperties>
</file>