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CDB9-7794-44AA-A055-B950BC049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CC01-E040-43D9-A8E6-570617779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0AB8-7035-4BF8-9000-D594336E2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C5F0-F642-46CA-8014-198477200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1EC9-180B-434D-BCC1-D26B8F553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5E22-5BC8-4874-A640-D87FF670F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A04F-ECA6-4313-820E-A895AF0F2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9870-E43A-432C-AA7D-3FAB759EA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7C40-1F03-490C-9E3F-35858671C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1BAD-F768-4046-A125-58FF5F08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893A-31DC-4570-AB3D-67CE36159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5E00-A689-4931-BEED-BC01E5469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CE4E-4992-493A-A882-35B837B9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A50A-072C-4622-930A-09CFF60E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977F-4500-4A41-8BD1-A55C4FD8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61F9-2C9C-4742-A3A5-893886CE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8662-8E12-41AD-ACF4-EBFEE97C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5ED9-C9DD-4D5B-ACBA-C1ED0264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FB56-BD4A-4D20-A31B-8F7511C9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300E-73F7-44FA-AFF1-1F408133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F23F-60C6-4513-911D-41F98842B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2592000" y="685800"/>
            <a:ext cx="41569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s You May Enj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Deltora 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Twi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The W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Ella Ench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Harry Po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Phantom Tollbo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tora Quest: By Emily Rod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666880" y="1981080"/>
            <a:ext cx="3525840" cy="48769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7006320" y="59403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87440" y="280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ish: Gail Carson Lev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2514600" y="1676520"/>
            <a:ext cx="3530520" cy="50799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>
            <a:hlinkClick r:id="" action="ppaction://hlinkshowjump?jump=firstslide"/>
          </p:cNvPr>
          <p:cNvSpPr/>
          <p:nvPr/>
        </p:nvSpPr>
        <p:spPr>
          <a:xfrm>
            <a:off x="6912720" y="57913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ilight: Stephenie Meyer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2692440" y="1676520"/>
            <a:ext cx="3403440" cy="51051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6914160" y="57164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05280" y="609120"/>
            <a:ext cx="944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la Enchanted:By Gail Carson Lev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2944800" y="1905120"/>
            <a:ext cx="3075120" cy="46479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7006320" y="55306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ry Potter: J.K. Row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3594240" cy="51051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7398360" y="53816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hantom Tollbooth: Norton Ju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343320" cy="51055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5"/>
          <p:cNvSpPr/>
          <p:nvPr/>
        </p:nvSpPr>
        <p:spPr>
          <a:xfrm>
            <a:off x="7006320" y="53244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4:57:18Z</dcterms:created>
  <dc:creator>MTL Admin</dc:creator>
  <dc:description/>
  <dc:language>en-US</dc:language>
  <cp:lastModifiedBy>MTL Admin</cp:lastModifiedBy>
  <dcterms:modified xsi:type="dcterms:W3CDTF">2009-12-15T15:17:40Z</dcterms:modified>
  <cp:revision>3</cp:revision>
  <dc:subject/>
  <dc:title>PowerPoint Presentation</dc:title>
</cp:coreProperties>
</file>