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E533-1EDA-4E99-9BB1-BB9F0A592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7272-A129-413B-8D29-3F6344F0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4F9B-6F56-444D-8084-614ADB58A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8421-27E4-4410-A21E-9F52BFE45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022-0E87-4367-B9F4-EFD59B8B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2571-98B0-42CF-9187-1073B523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CAFB-F87D-41B2-9DA5-199348C6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F1A4-6827-4A4E-B4D1-0E2902E5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75C-6F19-477E-A156-FCB04F30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C83-96EE-4217-B4B9-C5941B3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682-DF22-4C88-966A-623205D0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052-5504-43D8-922F-11DFD939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82B-8406-4417-8235-896104DD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4F2-2ABC-4310-96F5-43DD51CB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541-4A65-4D10-8ED8-46656F64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766-63B6-4372-A11E-5CD13AB6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453-E450-4CD5-8661-AD0D645A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57F-1487-4E81-898F-39AAED47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1C1-A313-445C-B13E-D5F68DD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83B-6FF5-455F-9572-CDE6A86A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92D3-B1D7-45D1-AB2E-079EFE240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92000" y="685800"/>
            <a:ext cx="4156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You May En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ltora 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i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e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lla Ench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hantom Toll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ra Quest: By Emily Rod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5258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7006320" y="59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44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sh: Gail Carson Le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30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>
            <a:hlinkClick r:id="" action="ppaction://hlinkshowjump?jump=firstslide"/>
          </p:cNvPr>
          <p:cNvSpPr/>
          <p:nvPr/>
        </p:nvSpPr>
        <p:spPr>
          <a:xfrm>
            <a:off x="691272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: Stephenie Mey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92440" y="16765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914160" y="5716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6091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a Enchanted:By Gail Carson Lev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1905120"/>
            <a:ext cx="30751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006320" y="553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: J.K. Row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594240" cy="51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398360" y="5381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ntom Tollbooth: Norton J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43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006320" y="532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57:18Z</dcterms:created>
  <dc:creator>MTL Admin</dc:creator>
  <dc:description/>
  <dc:language>en-US</dc:language>
  <cp:lastModifiedBy>MTL Admin</cp:lastModifiedBy>
  <dcterms:modified xsi:type="dcterms:W3CDTF">2009-12-15T15:17:40Z</dcterms:modified>
  <cp:revision>3</cp:revision>
  <dc:subject/>
  <dc:title>PowerPoint Presentation</dc:title>
</cp:coreProperties>
</file>