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9613E-392C-4FF2-BB37-C2997E30D3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14CE2-DCBA-4A46-A225-0F12E90946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C08D0-9E14-4773-9F8E-69D582E0EC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971DA-611C-49F5-90AF-CF289D33D0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A2F32-8967-4384-818B-34BD22DA9C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235C1-CD66-493D-8923-10E86E0355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E93E3-791E-4912-8D20-0665E0D563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96B5C-2A44-4DE2-B790-B6FD18005A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F646C-4F01-41C1-B4D7-6714C0112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B23DC-A78E-41DF-913E-262227463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2CBE3-0C6F-4E42-BE4D-DD7F2125D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1804F-84A3-40D5-B78A-3AAC7CBB9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143E1-AC59-407A-9B33-F175D5AC1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65949-1972-4D05-BB48-0E6B5FF33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DFA48-E902-4DEB-B493-5999BB9B6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85E60-8238-406F-888A-82A2C4DD9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AB4BA-47DC-4F66-9EC6-1DD46FE3F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00448-3288-468A-BA05-7FDF17671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58BEF-FA4E-432F-9EC0-0169FB121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B6FDB-F345-40FF-8DA5-48E8B2AA8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20516-CB9F-4012-9611-F5D64817D1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4.xml"/><Relationship Id="rId3" Type="http://schemas.openxmlformats.org/officeDocument/2006/relationships/slide" Target="slide3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5"/>
          <p:cNvSpPr/>
          <p:nvPr/>
        </p:nvSpPr>
        <p:spPr>
          <a:xfrm>
            <a:off x="2592000" y="685800"/>
            <a:ext cx="4156920" cy="49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oks You May Enjo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Deltora Qu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Twil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The Wi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Ella Encha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Harry Pot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he Phantom Tollboo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ltora Quest: By Emily Rod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"/>
          <p:cNvPicPr/>
          <p:nvPr/>
        </p:nvPicPr>
        <p:blipFill>
          <a:blip r:embed="rId1"/>
          <a:stretch/>
        </p:blipFill>
        <p:spPr>
          <a:xfrm>
            <a:off x="2666880" y="1981080"/>
            <a:ext cx="3525840" cy="487692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5"/>
          <p:cNvSpPr/>
          <p:nvPr/>
        </p:nvSpPr>
        <p:spPr>
          <a:xfrm>
            <a:off x="7006320" y="594036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6"/>
          <p:cNvSpPr/>
          <p:nvPr/>
        </p:nvSpPr>
        <p:spPr>
          <a:xfrm>
            <a:off x="487440" y="2803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53316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Wish: Gail Carson Lev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"/>
          <p:cNvPicPr/>
          <p:nvPr/>
        </p:nvPicPr>
        <p:blipFill>
          <a:blip r:embed="rId1"/>
          <a:stretch/>
        </p:blipFill>
        <p:spPr>
          <a:xfrm>
            <a:off x="2514600" y="1676520"/>
            <a:ext cx="3530520" cy="507996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5">
            <a:hlinkClick r:id="" action="ppaction://hlinkshowjump?jump=firstslide"/>
          </p:cNvPr>
          <p:cNvSpPr/>
          <p:nvPr/>
        </p:nvSpPr>
        <p:spPr>
          <a:xfrm>
            <a:off x="6912720" y="579132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wilight: Stephenie Meyer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"/>
          <p:cNvPicPr/>
          <p:nvPr/>
        </p:nvPicPr>
        <p:blipFill>
          <a:blip r:embed="rId1"/>
          <a:stretch/>
        </p:blipFill>
        <p:spPr>
          <a:xfrm>
            <a:off x="2692440" y="1676520"/>
            <a:ext cx="3403440" cy="510516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5"/>
          <p:cNvSpPr/>
          <p:nvPr/>
        </p:nvSpPr>
        <p:spPr>
          <a:xfrm>
            <a:off x="6914160" y="571644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-305280" y="609120"/>
            <a:ext cx="9448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la Enchanted:By Gail Carson Lev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"/>
          <p:cNvPicPr/>
          <p:nvPr/>
        </p:nvPicPr>
        <p:blipFill>
          <a:blip r:embed="rId1"/>
          <a:stretch/>
        </p:blipFill>
        <p:spPr>
          <a:xfrm>
            <a:off x="2944800" y="1905120"/>
            <a:ext cx="3075120" cy="464796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5"/>
          <p:cNvSpPr/>
          <p:nvPr/>
        </p:nvSpPr>
        <p:spPr>
          <a:xfrm>
            <a:off x="7006320" y="553068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rry Potter: J.K. Row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"/>
          <p:cNvPicPr/>
          <p:nvPr/>
        </p:nvPicPr>
        <p:blipFill>
          <a:blip r:embed="rId1"/>
          <a:stretch/>
        </p:blipFill>
        <p:spPr>
          <a:xfrm>
            <a:off x="2971800" y="1676520"/>
            <a:ext cx="3594240" cy="510516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5"/>
          <p:cNvSpPr/>
          <p:nvPr/>
        </p:nvSpPr>
        <p:spPr>
          <a:xfrm>
            <a:off x="7398360" y="538164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Phantom Tollbooth: Norton Jus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"/>
          <p:cNvPicPr/>
          <p:nvPr/>
        </p:nvPicPr>
        <p:blipFill>
          <a:blip r:embed="rId1"/>
          <a:stretch/>
        </p:blipFill>
        <p:spPr>
          <a:xfrm>
            <a:off x="2743200" y="1752480"/>
            <a:ext cx="3343320" cy="510552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5"/>
          <p:cNvSpPr/>
          <p:nvPr/>
        </p:nvSpPr>
        <p:spPr>
          <a:xfrm>
            <a:off x="7006320" y="532440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4T14:57:18Z</dcterms:created>
  <dc:creator>MTL Admin</dc:creator>
  <dc:description/>
  <dc:language>en-US</dc:language>
  <cp:lastModifiedBy>MTL Admin</cp:lastModifiedBy>
  <dcterms:modified xsi:type="dcterms:W3CDTF">2009-12-15T15:17:40Z</dcterms:modified>
  <cp:revision>3</cp:revision>
  <dc:subject/>
  <dc:title>PowerPoint Presentation</dc:title>
</cp:coreProperties>
</file>