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6881C-63FB-480B-BE62-55551F252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AD7AE-2A8B-440C-BBAC-0813D9E5F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70D8E-7235-42A1-9E67-0C84F8F9E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213AB-C960-4F2F-93A7-1D0C94B29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B2E53-62D2-48C3-B377-CD6AEE8FC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25307-E65B-4E6A-B04D-4126F8E75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6FDE3-72AF-4D92-906B-9944F62EB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F396A-2361-41B1-996F-883C40EF0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114A-D3B6-4CFF-BFBA-92836851A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83BB-CB19-4832-BC3E-9C996DCDE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18FD-5BD9-4ECC-8EE0-32D0ABD8A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69A7-968E-4AE5-A367-7A65ABB90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F7AE-446C-4870-946B-18D601B35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E987-3992-46EB-A333-19FC54184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505A-D41F-4733-8494-2F2326076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949E-4416-44E7-9659-4A59574B9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54C7-16FB-4D4A-AAAD-5764133A3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26CF-D104-4846-9804-12B52BE2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399E-DB1C-4A15-B456-B806D7AE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F727-450B-43CB-ACDD-FC707DCF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B9D0E-BDBA-4E34-9D7A-9BE6CC4FF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2592000" y="685800"/>
            <a:ext cx="415692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s You May Enj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Deltora 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Twi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The W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Ella Encha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Harry Po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 Phantom Tollbo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tora Quest: By Emily Rod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2666880" y="1981080"/>
            <a:ext cx="3525840" cy="48769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7006320" y="594036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487440" y="280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5331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ish: Gail Carson Lev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2514600" y="1676520"/>
            <a:ext cx="3530520" cy="50799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5">
            <a:hlinkClick r:id="" action="ppaction://hlinkshowjump?jump=firstslide"/>
          </p:cNvPr>
          <p:cNvSpPr/>
          <p:nvPr/>
        </p:nvSpPr>
        <p:spPr>
          <a:xfrm>
            <a:off x="6912720" y="57913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ilight: Stephenie Meyer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2692440" y="1676520"/>
            <a:ext cx="3403440" cy="51051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5"/>
          <p:cNvSpPr/>
          <p:nvPr/>
        </p:nvSpPr>
        <p:spPr>
          <a:xfrm>
            <a:off x="6914160" y="571644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05280" y="609120"/>
            <a:ext cx="944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la Enchanted:By Gail Carson Lev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2944800" y="1905120"/>
            <a:ext cx="3075120" cy="46479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7006320" y="553068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ry Potter: J.K. Row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2971800" y="1676520"/>
            <a:ext cx="3594240" cy="51051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5"/>
          <p:cNvSpPr/>
          <p:nvPr/>
        </p:nvSpPr>
        <p:spPr>
          <a:xfrm>
            <a:off x="7398360" y="538164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hantom Tollbooth: Norton Ju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2743200" y="1752480"/>
            <a:ext cx="3343320" cy="51055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5"/>
          <p:cNvSpPr/>
          <p:nvPr/>
        </p:nvSpPr>
        <p:spPr>
          <a:xfrm>
            <a:off x="7006320" y="53244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4:57:18Z</dcterms:created>
  <dc:creator>MTL Admin</dc:creator>
  <dc:description/>
  <dc:language>en-US</dc:language>
  <cp:lastModifiedBy>MTL Admin</cp:lastModifiedBy>
  <dcterms:modified xsi:type="dcterms:W3CDTF">2009-12-15T15:17:40Z</dcterms:modified>
  <cp:revision>3</cp:revision>
  <dc:subject/>
  <dc:title>PowerPoint Presentation</dc:title>
</cp:coreProperties>
</file>