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02F0-0913-4615-B805-7C9A6C758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9FD7-533F-4828-846D-FA1D03753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8817-7F9C-436A-A879-8BE03AB0E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C649-4A17-40EF-8E78-BF0A1FFBF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084F-0B14-44C7-A10E-A6D74E983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D937-0734-401A-A803-C10F8C520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BFFF-84A5-4CC0-A676-4937EEB21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9BCC-A4C4-4E9F-8E39-619DC7EF4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C7E-5287-460B-9CF0-D838E779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A636-2A14-483B-8E2D-F0E75F4C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7B5-623F-4FBE-A22D-72F17B35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36A2-387F-4663-B2FC-AE8AE9AB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783F-85CC-4F56-B792-9D6CE619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B54-A0E5-4A9D-BBED-E885DCD7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D99-A370-4825-A753-507E65A1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4AA3-13A3-43E1-9ADA-33F545FE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382-F6B9-4868-8A90-584C39A7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F36C-C003-4EC6-9C2A-636EA94B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4DA-EF8C-4440-8B38-97351D0C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1BF-AF44-4992-B06E-EEE2326E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F549-042B-4EA1-828C-25BFE96DA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2592000" y="685800"/>
            <a:ext cx="4156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s You May En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Deltora 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wi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he W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lla Ench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Harry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Phantom Tollb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tora Quest: By Emily Rod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52584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7006320" y="5940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7440" y="280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ish: Gail Carson Le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3530520" cy="5079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>
            <a:hlinkClick r:id="" action="ppaction://hlinkshowjump?jump=firstslide"/>
          </p:cNvPr>
          <p:cNvSpPr/>
          <p:nvPr/>
        </p:nvSpPr>
        <p:spPr>
          <a:xfrm>
            <a:off x="6912720" y="5791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ilight: Stephenie Mey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692440" y="1676520"/>
            <a:ext cx="3403440" cy="5105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6914160" y="5716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05280" y="60912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a Enchanted:By Gail Carson Lev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944800" y="1905120"/>
            <a:ext cx="3075120" cy="46479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7006320" y="55306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y Potter: J.K. Row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3594240" cy="5105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7398360" y="5381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antom Tollbooth: Norton J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343320" cy="51055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7006320" y="53244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57:18Z</dcterms:created>
  <dc:creator>MTL Admin</dc:creator>
  <dc:description/>
  <dc:language>en-US</dc:language>
  <cp:lastModifiedBy>MTL Admin</cp:lastModifiedBy>
  <dcterms:modified xsi:type="dcterms:W3CDTF">2009-12-15T15:17:40Z</dcterms:modified>
  <cp:revision>3</cp:revision>
  <dc:subject/>
  <dc:title>PowerPoint Presentation</dc:title>
</cp:coreProperties>
</file>