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908-0D47-47DC-B843-1306D9D8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FF0-D337-4191-8DA5-2ABCF05D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D90-9339-478A-8643-1E65C05A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16C-CA6D-4CA1-B066-BECB03CE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133E-4CD8-4F85-99B9-16F37C45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CAE-D599-432B-8DAF-C6A22DB6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C3E-FF6C-4C5A-A4E4-2620CAE9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18AC-0437-4E05-8642-9CB07F74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9DF6-3E8C-47A0-B36F-10175D9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8AB-DC06-407B-A54A-ADA825FA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1978-FD1C-45E0-AA0C-3869D95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B0F-2ED2-483B-9FB4-382B0161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3471-6A15-4B3B-BBFC-F083739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ACE-12DB-41AB-8C2A-2676A16B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B96-73EC-4F75-86AF-FD472A2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ACEE-9D68-4765-8574-A71237FE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FC6F-D623-47EB-8C9A-FB070E68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7C0-3EF0-4E38-9C66-84C20B3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B0B-B00E-42B7-8980-C322CF9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9D2-B1C8-434B-AE28-00DCDDE0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AF6-2689-4C4B-BA49-7C8D60A8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1A6-8AA3-4CD2-9855-ED776EF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714-94CC-4848-AC65-66BD07D7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E35-9336-45C4-ABCC-00A34B2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9A2-D9B1-49B7-AFA1-E9BB8E59F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05CD-920D-4D7B-91C0-B5F269F1F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ZLKvAAAACAAJ&amp;dq=sister+of+the+wolf&amp;cd=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ical Fi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Orange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5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8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ed Rea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St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alk to Me About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r of the Wo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Sister of the Wolf book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9520" y="419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Don't talk to me about the war book image"/>
          <p:cNvPicPr/>
          <p:nvPr/>
        </p:nvPicPr>
        <p:blipFill>
          <a:blip r:embed="rId3"/>
          <a:stretch/>
        </p:blipFill>
        <p:spPr>
          <a:xfrm>
            <a:off x="765000" y="2895480"/>
            <a:ext cx="175752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Number the stars book image"/>
          <p:cNvPicPr/>
          <p:nvPr/>
        </p:nvPicPr>
        <p:blipFill>
          <a:blip r:embed="rId4"/>
          <a:stretch/>
        </p:blipFill>
        <p:spPr>
          <a:xfrm>
            <a:off x="6324480" y="1525680"/>
            <a:ext cx="137160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5:01Z</dcterms:created>
  <dc:creator>Rick Adams</dc:creator>
  <dc:description/>
  <dc:language>en-US</dc:language>
  <cp:lastModifiedBy>Rick Adams</cp:lastModifiedBy>
  <dcterms:modified xsi:type="dcterms:W3CDTF">2010-01-20T23:37:33Z</dcterms:modified>
  <cp:revision>9</cp:revision>
  <dc:subject/>
  <dc:title>HISTORICAL FICTION</dc:title>
</cp:coreProperties>
</file>