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7FE-CA2E-4943-9221-37A864B0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D0A-C9BC-47D1-91AC-9FC70F72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0E9-16E0-49FB-B673-41FFCB47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04B-3B28-490D-80DC-D99C02B3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CB23-689D-464C-820A-7F93A47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7FEF-B01B-4F1B-9C2E-576A1E6B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985B-A250-4EB2-BE9D-ECCFE226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7DDD-6FB5-418B-86CD-0AB63A9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8736-AB8F-4EB7-8A60-3CB58F4C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29E0-AF73-477C-B92B-E21FFBA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0FDC-6AFE-4453-A611-328068E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E3C-1399-47F1-BB0D-F13F403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4B9-F3EA-43BD-BF8E-28FD5E6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CCC-9742-4284-A73F-16E13DB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BF8D-AE33-4415-903C-E3738C6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8A7-9087-4580-8E33-9A70B32A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5522-983D-49C9-B12E-649DA686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1CE-BCC4-4F6F-B2D2-1FABD53E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95A-C258-4B7B-895F-35E4DB41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36B-C7C6-4C91-8CEA-72571AA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AD7-4C40-43D3-A4DE-2B526118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4A8-E96B-49AE-9606-694484B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E0E-9B5E-493C-BA97-CB40884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3B0-5DFB-4FCC-B1CB-DBE1DB7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63F9-9F31-4DC4-8D74-7D4FC0491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B25-4C99-4EE4-B28D-5F77ADF9D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0T23:37:33Z</dcterms:modified>
  <cp:revision>9</cp:revision>
  <dc:subject/>
  <dc:title>HISTORICAL FICTION</dc:title>
</cp:coreProperties>
</file>