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E62-25D6-47A9-B8E0-E1E6B4B2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B26-85FF-4398-8E02-7A075763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037-533C-4901-BCDA-B01AF469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4C5-FDEF-4951-95BA-DD52D841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4A28-9CF8-46D3-8C01-D89797B2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4C8E-EF48-4533-AAE6-19BCE3F7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9145-5692-4BC4-9779-C315F1A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E6B2-CE4D-4B81-8BBD-DB1CEE84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240-F608-4197-BA44-F760BC3C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F42B-A009-419C-BBDD-EB1639B2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9546-3D5E-426C-A7FD-07E68B14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39E-5DFB-4CD4-A503-ACB94C18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EECC-A690-457B-A7FD-198BBCFD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61F3-399B-49AD-9181-28BBE60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4895-1A9C-4CDD-900B-5690C323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F0F0-C0F5-4D65-9196-B666BD18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40C4-E461-49ED-8BF6-E39CD6D2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DC1-D83F-408A-A419-F911B975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88F-8B9F-4BB9-BBB3-9ABEBDC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097-956B-40F2-87F5-C7DF62AE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329-9E7D-49C4-831A-5496B496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A80-B1A2-4CFF-BF27-659A272F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71B-2DE2-41CE-9FC4-341A9A9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841-1565-448C-A265-BFD9264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4158-80FB-485C-8968-D27F52A5F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98C-9147-4C89-A913-1D3699B46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0T23:37:33Z</dcterms:modified>
  <cp:revision>9</cp:revision>
  <dc:subject/>
  <dc:title>HISTORICAL FICTION</dc:title>
</cp:coreProperties>
</file>