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70A-848F-4D42-814A-125DAB4C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E4F-51F5-4ED0-B5D1-A4E8438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323-6E97-4EAF-A10B-EB19D598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937-5E11-4B09-A63A-7380BAB6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1B48-1470-4FB0-BB1D-0422F0A8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BE34-E416-4191-82BE-090D12CE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F429-6700-4CE3-885E-AF119B9D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2D05-D741-4A05-A37D-DFF6C13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FCA7-3FE8-40DC-8ED0-6337813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9A17-EE1A-41C0-BCC7-386D1DC6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9E4-2A43-46D7-92FA-EA59DB5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EEF-E177-44D2-899A-EC8F2E3B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5311-DD50-4BE9-8AE6-593F71A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8827-C00A-411E-BCA5-98456BB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AB10-9521-45CA-BD71-C27D85D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9126-82EA-4469-B50D-810F0581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C52C-F693-431B-9E01-635EDC74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252-8FDF-4420-87C3-388AB2D9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6FB-A58B-4AFE-B5D3-49A3FB66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F47-CB20-4709-8637-24141AC6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8C5-6D52-4B8A-B736-D1536D4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CB2-DE4F-4893-B7DD-1FCEDFE3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8BE-F5D3-4C6E-848E-CE0CF8A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A67-C8B5-4329-8154-CF95633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1B4F-892D-4D96-B43C-6B3B0CB43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8B20-6AEA-4ED4-AE2C-74974373B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0T23:37:33Z</dcterms:modified>
  <cp:revision>9</cp:revision>
  <dc:subject/>
  <dc:title>HISTORICAL FICTION</dc:title>
</cp:coreProperties>
</file>