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gif" ContentType="image/gif"/>
  <Override PartName="/ppt/media/image23.wmf" ContentType="image/x-wmf"/>
  <Override PartName="/ppt/media/image28.jpeg" ContentType="image/jpeg"/>
  <Override PartName="/ppt/media/image22.png" ContentType="image/png"/>
  <Override PartName="/ppt/media/image21.jpeg" ContentType="image/jpeg"/>
  <Override PartName="/ppt/media/image32.wmf" ContentType="image/x-wmf"/>
  <Override PartName="/ppt/media/image19.jpeg" ContentType="image/jpeg"/>
  <Override PartName="/ppt/media/image25.png" ContentType="image/png"/>
  <Override PartName="/ppt/media/image15.jpeg" ContentType="image/jpeg"/>
  <Override PartName="/ppt/media/image13.gif" ContentType="image/gif"/>
  <Override PartName="/ppt/media/image16.jpeg" ContentType="image/jpeg"/>
  <Override PartName="/ppt/media/image9.gif" ContentType="image/gif"/>
  <Override PartName="/ppt/media/image35.wmf" ContentType="image/x-wmf"/>
  <Override PartName="/ppt/media/image18.jpeg" ContentType="image/jpeg"/>
  <Override PartName="/ppt/media/image10.gif" ContentType="image/gif"/>
  <Override PartName="/ppt/media/image37.jpeg" ContentType="image/jpeg"/>
  <Override PartName="/ppt/media/image30.wmf" ContentType="image/x-wmf"/>
  <Override PartName="/ppt/media/image6.jpeg" ContentType="image/jpeg"/>
  <Override PartName="/ppt/media/image8.gif" ContentType="image/gif"/>
  <Override PartName="/ppt/media/image34.wmf" ContentType="image/x-wmf"/>
  <Override PartName="/ppt/media/image11.gif" ContentType="image/gif"/>
  <Override PartName="/ppt/media/image31.gif" ContentType="image/gif"/>
  <Override PartName="/ppt/media/image38.wmf" ContentType="image/x-wmf"/>
  <Override PartName="/ppt/media/image39.png" ContentType="image/png"/>
  <Override PartName="/ppt/media/image7.jpeg" ContentType="image/jpeg"/>
  <Override PartName="/ppt/media/image1.wmf" ContentType="image/x-wmf"/>
  <Override PartName="/ppt/media/image24.wmf" ContentType="image/x-wmf"/>
  <Override PartName="/ppt/media/image20.png" ContentType="image/png"/>
  <Override PartName="/ppt/media/image36.jpeg" ContentType="image/jpeg"/>
  <Override PartName="/ppt/media/image5.png" ContentType="image/png"/>
  <Override PartName="/ppt/media/image33.wmf" ContentType="image/x-wmf"/>
  <Override PartName="/ppt/media/image29.jpeg" ContentType="image/jpeg"/>
  <Override PartName="/ppt/media/image4.png" ContentType="image/png"/>
  <Override PartName="/ppt/media/image3.png" ContentType="image/png"/>
  <Override PartName="/ppt/media/image12.gif" ContentType="image/gif"/>
  <Override PartName="/ppt/media/image17.jpeg" ContentType="image/jpeg"/>
  <Override PartName="/ppt/media/image2.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65ABE-E08C-461C-A261-A498392BB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CF946-C0B7-4FAF-81D7-58412FE23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41696-EE43-4E83-8180-D975441DE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C814C-5BEC-4F72-AB99-EF248F4C7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C6373-6F72-4DEE-A63E-450A9A4FA5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010D4-9E55-4494-A0F8-55A7379F2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E9BD2-8353-4F6F-AF58-0175C8108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31393-25B3-4E6C-B7DB-49BC7CE00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9C0C1-8C07-49FF-BDB6-1051D64B4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8E3B6-96CB-4F43-9E0E-A16D7E96C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180C8-881C-4BCA-994F-6D4FBA086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46B4B-BE18-4E1E-AAFE-92CE91119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234BB-A930-4AE7-AA8B-1B2DDAB6B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3149C-6001-415B-8200-58FFA1CA1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CE0BA-7BC9-4053-80CE-D813D779B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84A2A-59E1-487C-94A6-E1660914A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8FD65-C6E5-42DD-91DA-EDD2B57FB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EC642-4681-45EB-9EF7-464A0B18E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BDD4D-508A-4CB3-B071-F6BE7CA33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6E8A8-6F84-4BEB-9230-A5AD29F2C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9E8D7-2F5A-4BBD-9BF2-C78E554F3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456FB-84EA-4CBA-A13C-B1A176071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5C7BC-5200-47E2-B3F0-66F9F9FDA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3E612-5101-4427-AD78-6DB95ABBB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661B-8187-4FE0-9E66-77D95185F7E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C5A7-5F41-4F1B-95E1-274420349C3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booksforyouth.files.wordpress.com/2009/01/inkheart.jpg&amp;imgrefurl=http://booksforyouth.wordpress.com/2009/01/29/inkheart-by-cornelia-funke/&amp;usg=__3qxKD6u5sL0yobc3PwP_CyEhKBw=&amp;h=475&amp;w=368&amp;sz=169&amp;hl=en&amp;start=1&amp;um=1&amp;tbnid=0Z-Fh7M_9xgRPM:&amp;tbnh=129&amp;tbnw=100&amp;prev=/images%3Fq%3Dinkheart%26hl%3Den%26sa%3DN%26um%3D1" TargetMode="External"/><Relationship Id="rId2" Type="http://schemas.openxmlformats.org/officeDocument/2006/relationships/image" Target="../media/image6.jpeg"/><Relationship Id="rId3" Type="http://schemas.openxmlformats.org/officeDocument/2006/relationships/hyperlink" Target="http://images.google.com/imgres?imgurl=http://nicolepoliti.files.wordpress.com/2009/04/fablehaven.jpg&amp;imgrefurl=http://nicolepoliti.wordpress.com/2009/04/23/fablehaven-by-brandon-mull/&amp;usg=__G_ORQdaJMJW-suPuGi7umHw5Tfc=&amp;h=500&amp;w=336&amp;sz=49&amp;hl=en&amp;start=1&amp;um=1&amp;tbnid=ukSZnbGQaFH7GM:&amp;tbnh=130&amp;tbnw=87&amp;prev=/images%3Fq%3Dfablehaven%26hl%3Den%26um%3D1" TargetMode="External"/><Relationship Id="rId4" Type="http://schemas.openxmlformats.org/officeDocument/2006/relationships/image" Target="../media/image7.jpeg"/><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gif"/><Relationship Id="rId8" Type="http://schemas.openxmlformats.org/officeDocument/2006/relationships/image" Target="../media/image11.gif"/><Relationship Id="rId9" Type="http://schemas.openxmlformats.org/officeDocument/2006/relationships/image" Target="../media/image12.gif"/><Relationship Id="rId10" Type="http://schemas.openxmlformats.org/officeDocument/2006/relationships/image" Target="../media/image13.gif"/><Relationship Id="rId11" Type="http://schemas.openxmlformats.org/officeDocument/2006/relationships/hyperlink" Target="http://images.google.com/imgres?imgurl=http://bookdweeb.files.wordpress.com/2008/04/lightningthief1.jpg&amp;imgrefurl=http://bookdweeb.wordpress.com/2008/04/19/lightning-thief-wins-2008-sequoyah-book-award/&amp;usg=__O8yEJgwmxR31N5HqJXicRYCIwL8=&amp;h=824&amp;w=550&amp;sz=52&amp;hl=en&amp;start=2&amp;um=1&amp;tbnid=4sk4wcRS3o3B1M:&amp;tbnh=144&amp;tbnw=96&amp;prev=/images%3Fq%3Dthe%2Blightning%2Bthief%26hl%3Den%26um%3D1" TargetMode="External"/><Relationship Id="rId12" Type="http://schemas.openxmlformats.org/officeDocument/2006/relationships/image" Target="../media/image14.jpeg"/><Relationship Id="rId13" Type="http://schemas.openxmlformats.org/officeDocument/2006/relationships/hyperlink" Target="http://images.google.com/imgres?imgurl=http://www.sd68.k12.il.us/schools/orchard/LMC/Book%2520Covers/thief%2520lord.jpg&amp;imgrefurl=http://www.sd68.k12.il.us/schools/orchard/LMC/6thgradelist.htm&amp;usg=___542WS8-bRz1RX4LsAQwy7XxiaY=&amp;h=475&amp;w=314&amp;sz=25&amp;hl=en&amp;start=4&amp;um=1&amp;tbnid=6FGLvX30o128RM:&amp;tbnh=129&amp;tbnw=85&amp;prev=/images%3Fq%3Dthief%2Blord%26hl%3Den%26um%3D1" TargetMode="External"/><Relationship Id="rId14" Type="http://schemas.openxmlformats.org/officeDocument/2006/relationships/image" Target="../media/image15.jpeg"/><Relationship Id="rId15" Type="http://schemas.openxmlformats.org/officeDocument/2006/relationships/hyperlink" Target="http://images.google.com/imgres?imgurl=http://www.candlewick.com/images/cwp_bookjackets/648/0763644102.jpg&amp;imgrefurl=http://www.candlewick.com/bookxtras.asp%3Fisbn%3D0763644102%26id%3D%26browse%3DTitle%26view%3Djacket%26jacket%3D./images/cwp_bookjackets/648/0763644102.jpg%26bktitle%3DThe%2BMagician%27s%2BElephant&amp;usg=__6KwkgFBs7EpSVCCeopKtKEaEtCI=&amp;h=1000&amp;w=672&amp;sz=189&amp;hl=en&amp;start=1&amp;um=1&amp;tbnid=LN02Yn8-yLisOM:&amp;tbnh=149&amp;tbnw=100&amp;prev=/images%3Fq%3Dmagician%2527s%2Belephant%26hl%3Den%26sa%3DN%26um%3D1" TargetMode="External"/><Relationship Id="rId16" Type="http://schemas.openxmlformats.org/officeDocument/2006/relationships/image" Target="../media/image16.jpeg"/><Relationship Id="rId17" Type="http://schemas.openxmlformats.org/officeDocument/2006/relationships/hyperlink" Target="http://images.google.com/imgres?imgurl=http://gilwilson.files.wordpress.com/2009/12/eragon.jpg&amp;imgrefurl=http://gilwilson.wordpress.com/2009/12/17/eragon-inheritance-book-1-by-christopher-paolini/&amp;usg=__sfiksg0pm-8SMPEbgCy9YEEHcSA=&amp;h=593&amp;w=400&amp;sz=33&amp;hl=en&amp;start=2&amp;um=1&amp;tbnid=PvQUDBhgP9YMTM:&amp;tbnh=135&amp;tbnw=91&amp;prev=/images%3Fq%3Deragon%26hl%3Den%26sa%3DN%26um%3D1" TargetMode="External"/><Relationship Id="rId18" Type="http://schemas.openxmlformats.org/officeDocument/2006/relationships/image" Target="../media/image17.jpeg"/><Relationship Id="rId19" Type="http://schemas.openxmlformats.org/officeDocument/2006/relationships/image" Target="../media/image18.jpeg"/><Relationship Id="rId20" Type="http://schemas.openxmlformats.org/officeDocument/2006/relationships/image" Target="../media/image19.jpeg"/><Relationship Id="rId21" Type="http://schemas.openxmlformats.org/officeDocument/2006/relationships/image" Target="../media/image20.png"/><Relationship Id="rId22" Type="http://schemas.openxmlformats.org/officeDocument/2006/relationships/image" Target="../media/image20.png"/><Relationship Id="rId2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image" Target="../media/image26.gif"/><Relationship Id="rId7" Type="http://schemas.openxmlformats.org/officeDocument/2006/relationships/image" Target="../media/image26.gif"/><Relationship Id="rId8" Type="http://schemas.openxmlformats.org/officeDocument/2006/relationships/image" Target="../media/image26.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1.gi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wmf"/><Relationship Id="rId6" Type="http://schemas.openxmlformats.org/officeDocument/2006/relationships/image" Target="../media/image39.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Modern Fantasy Game</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Good Luck,</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nd Have Fun!!!</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Instructions</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s is a fairly simple game that will test if you have paid attention during my Wiki. All you have to do is match the books to their authors. If you are right you will here an applause and the book will move to the correct author. If not then you will here the crowd laugh at your answer and the book will move to the right author.</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S.- We are watching the Wikis individually so to see if you are correct just click. If you are right click the speaker on the right. But if you are wrong click the one on the left. If you got all the questions right and you did not get to hear the laugh click it anyway its pretty funny!</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196" name="" descr="">
            <a:hlinkClick r:id="rId1"/>
          </p:cNvPr>
          <p:cNvPicPr/>
          <p:nvPr/>
        </p:nvPicPr>
        <p:blipFill>
          <a:blip r:embed="rId2"/>
          <a:stretch/>
        </p:blipFill>
        <p:spPr>
          <a:xfrm>
            <a:off x="0" y="0"/>
            <a:ext cx="1593720" cy="2057400"/>
          </a:xfrm>
          <a:prstGeom prst="rect">
            <a:avLst/>
          </a:prstGeom>
          <a:ln w="0">
            <a:noFill/>
          </a:ln>
        </p:spPr>
      </p:pic>
      <p:pic>
        <p:nvPicPr>
          <p:cNvPr id="197" name="" descr="">
            <a:hlinkClick r:id="rId3"/>
          </p:cNvPr>
          <p:cNvPicPr/>
          <p:nvPr/>
        </p:nvPicPr>
        <p:blipFill>
          <a:blip r:embed="rId4"/>
          <a:stretch/>
        </p:blipFill>
        <p:spPr>
          <a:xfrm>
            <a:off x="0" y="4114800"/>
            <a:ext cx="1600200" cy="2057400"/>
          </a:xfrm>
          <a:prstGeom prst="rect">
            <a:avLst/>
          </a:prstGeom>
          <a:ln w="0">
            <a:noFill/>
          </a:ln>
        </p:spPr>
      </p:pic>
      <p:pic>
        <p:nvPicPr>
          <p:cNvPr id="198" name="" descr=""/>
          <p:cNvPicPr/>
          <p:nvPr/>
        </p:nvPicPr>
        <p:blipFill>
          <a:blip r:embed="rId5"/>
          <a:stretch/>
        </p:blipFill>
        <p:spPr>
          <a:xfrm>
            <a:off x="4267080" y="2895480"/>
            <a:ext cx="762120" cy="648000"/>
          </a:xfrm>
          <a:prstGeom prst="rect">
            <a:avLst/>
          </a:prstGeom>
          <a:ln w="0">
            <a:noFill/>
          </a:ln>
        </p:spPr>
      </p:pic>
      <p:pic>
        <p:nvPicPr>
          <p:cNvPr id="199" name="" descr=""/>
          <p:cNvPicPr/>
          <p:nvPr/>
        </p:nvPicPr>
        <p:blipFill>
          <a:blip r:embed="rId6"/>
          <a:stretch/>
        </p:blipFill>
        <p:spPr>
          <a:xfrm>
            <a:off x="3352680" y="2743200"/>
            <a:ext cx="1028880" cy="1028880"/>
          </a:xfrm>
          <a:prstGeom prst="rect">
            <a:avLst/>
          </a:prstGeom>
          <a:ln w="0">
            <a:noFill/>
          </a:ln>
        </p:spPr>
      </p:pic>
      <p:pic>
        <p:nvPicPr>
          <p:cNvPr id="200" name="" descr=""/>
          <p:cNvPicPr/>
          <p:nvPr/>
        </p:nvPicPr>
        <p:blipFill>
          <a:blip r:embed="rId7"/>
          <a:stretch/>
        </p:blipFill>
        <p:spPr>
          <a:xfrm>
            <a:off x="4724280" y="2819520"/>
            <a:ext cx="741600" cy="761760"/>
          </a:xfrm>
          <a:prstGeom prst="rect">
            <a:avLst/>
          </a:prstGeom>
          <a:ln w="0">
            <a:noFill/>
          </a:ln>
        </p:spPr>
      </p:pic>
      <p:pic>
        <p:nvPicPr>
          <p:cNvPr id="201" name="" descr=""/>
          <p:cNvPicPr/>
          <p:nvPr/>
        </p:nvPicPr>
        <p:blipFill>
          <a:blip r:embed="rId8"/>
          <a:stretch/>
        </p:blipFill>
        <p:spPr>
          <a:xfrm>
            <a:off x="2590920" y="2743200"/>
            <a:ext cx="828720" cy="914400"/>
          </a:xfrm>
          <a:prstGeom prst="rect">
            <a:avLst/>
          </a:prstGeom>
          <a:ln w="0">
            <a:noFill/>
          </a:ln>
        </p:spPr>
      </p:pic>
      <p:pic>
        <p:nvPicPr>
          <p:cNvPr id="202" name="" descr=""/>
          <p:cNvPicPr/>
          <p:nvPr/>
        </p:nvPicPr>
        <p:blipFill>
          <a:blip r:embed="rId9"/>
          <a:stretch/>
        </p:blipFill>
        <p:spPr>
          <a:xfrm>
            <a:off x="1523880" y="2666880"/>
            <a:ext cx="1057320" cy="1152720"/>
          </a:xfrm>
          <a:prstGeom prst="rect">
            <a:avLst/>
          </a:prstGeom>
          <a:ln w="0">
            <a:noFill/>
          </a:ln>
        </p:spPr>
      </p:pic>
      <p:pic>
        <p:nvPicPr>
          <p:cNvPr id="203" name="" descr=""/>
          <p:cNvPicPr/>
          <p:nvPr/>
        </p:nvPicPr>
        <p:blipFill>
          <a:blip r:embed="rId10"/>
          <a:stretch/>
        </p:blipFill>
        <p:spPr>
          <a:xfrm>
            <a:off x="533520" y="2514600"/>
            <a:ext cx="1409760" cy="1143000"/>
          </a:xfrm>
          <a:prstGeom prst="rect">
            <a:avLst/>
          </a:prstGeom>
          <a:ln w="0">
            <a:noFill/>
          </a:ln>
        </p:spPr>
      </p:pic>
      <p:grpSp>
        <p:nvGrpSpPr>
          <p:cNvPr id="204" name=""/>
          <p:cNvGrpSpPr/>
          <p:nvPr/>
        </p:nvGrpSpPr>
        <p:grpSpPr>
          <a:xfrm>
            <a:off x="762120" y="2438280"/>
            <a:ext cx="4647960" cy="1676520"/>
            <a:chOff x="762120" y="2438280"/>
            <a:chExt cx="4647960" cy="1676520"/>
          </a:xfrm>
        </p:grpSpPr>
        <p:sp>
          <p:nvSpPr>
            <p:cNvPr id="205" name=""/>
            <p:cNvSpPr/>
            <p:nvPr/>
          </p:nvSpPr>
          <p:spPr>
            <a:xfrm>
              <a:off x="762120" y="2438280"/>
              <a:ext cx="4647960" cy="167652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6" name=""/>
            <p:cNvSpPr txBox="1"/>
            <p:nvPr/>
          </p:nvSpPr>
          <p:spPr>
            <a:xfrm>
              <a:off x="1959120" y="2819520"/>
              <a:ext cx="2253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You Wi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pic>
        <p:nvPicPr>
          <p:cNvPr id="207" name="" descr="">
            <a:hlinkClick r:id="rId11"/>
          </p:cNvPr>
          <p:cNvPicPr/>
          <p:nvPr/>
        </p:nvPicPr>
        <p:blipFill>
          <a:blip r:embed="rId12"/>
          <a:stretch/>
        </p:blipFill>
        <p:spPr>
          <a:xfrm>
            <a:off x="0" y="2057400"/>
            <a:ext cx="1600200" cy="2057400"/>
          </a:xfrm>
          <a:prstGeom prst="rect">
            <a:avLst/>
          </a:prstGeom>
          <a:ln w="0">
            <a:noFill/>
          </a:ln>
        </p:spPr>
      </p:pic>
      <p:pic>
        <p:nvPicPr>
          <p:cNvPr id="208" name="" descr="">
            <a:hlinkClick r:id="rId13"/>
          </p:cNvPr>
          <p:cNvPicPr/>
          <p:nvPr/>
        </p:nvPicPr>
        <p:blipFill>
          <a:blip r:embed="rId14"/>
          <a:stretch/>
        </p:blipFill>
        <p:spPr>
          <a:xfrm>
            <a:off x="1600200" y="0"/>
            <a:ext cx="1600200" cy="2057400"/>
          </a:xfrm>
          <a:prstGeom prst="rect">
            <a:avLst/>
          </a:prstGeom>
          <a:ln w="0">
            <a:noFill/>
          </a:ln>
        </p:spPr>
      </p:pic>
      <p:pic>
        <p:nvPicPr>
          <p:cNvPr id="209" name="" descr="">
            <a:hlinkClick r:id="rId15"/>
          </p:cNvPr>
          <p:cNvPicPr/>
          <p:nvPr/>
        </p:nvPicPr>
        <p:blipFill>
          <a:blip r:embed="rId16"/>
          <a:stretch/>
        </p:blipFill>
        <p:spPr>
          <a:xfrm>
            <a:off x="1600200" y="2057400"/>
            <a:ext cx="1600200" cy="2133720"/>
          </a:xfrm>
          <a:prstGeom prst="rect">
            <a:avLst/>
          </a:prstGeom>
          <a:ln w="0">
            <a:noFill/>
          </a:ln>
        </p:spPr>
      </p:pic>
      <p:pic>
        <p:nvPicPr>
          <p:cNvPr id="210" name="" descr="">
            <a:hlinkClick r:id="rId17"/>
          </p:cNvPr>
          <p:cNvPicPr/>
          <p:nvPr/>
        </p:nvPicPr>
        <p:blipFill>
          <a:blip r:embed="rId18"/>
          <a:stretch/>
        </p:blipFill>
        <p:spPr>
          <a:xfrm>
            <a:off x="1600200" y="4191120"/>
            <a:ext cx="1600200" cy="1981080"/>
          </a:xfrm>
          <a:prstGeom prst="rect">
            <a:avLst/>
          </a:prstGeom>
          <a:ln w="0">
            <a:noFill/>
          </a:ln>
        </p:spPr>
      </p:pic>
      <p:pic>
        <p:nvPicPr>
          <p:cNvPr id="211" name="" descr=""/>
          <p:cNvPicPr/>
          <p:nvPr/>
        </p:nvPicPr>
        <p:blipFill>
          <a:blip r:embed="rId19"/>
          <a:stretch/>
        </p:blipFill>
        <p:spPr>
          <a:xfrm>
            <a:off x="3124080" y="0"/>
            <a:ext cx="1600200" cy="2057400"/>
          </a:xfrm>
          <a:prstGeom prst="rect">
            <a:avLst/>
          </a:prstGeom>
          <a:ln w="0">
            <a:noFill/>
          </a:ln>
        </p:spPr>
      </p:pic>
      <p:pic>
        <p:nvPicPr>
          <p:cNvPr id="212" name="Picture 2" descr="http://contentcafe2.btol.com/ContentCafe/jacket.aspx?UserID=ebsco-test&amp;Password=ebsco-test&amp;Return=T&amp;Type=L&amp;Value=9780374384579"/>
          <p:cNvPicPr/>
          <p:nvPr/>
        </p:nvPicPr>
        <p:blipFill>
          <a:blip r:embed="rId20"/>
          <a:stretch/>
        </p:blipFill>
        <p:spPr>
          <a:xfrm>
            <a:off x="3200400" y="2057400"/>
            <a:ext cx="1523880" cy="2133720"/>
          </a:xfrm>
          <a:prstGeom prst="rect">
            <a:avLst/>
          </a:prstGeom>
          <a:ln w="0">
            <a:noFill/>
          </a:ln>
        </p:spPr>
      </p:pic>
      <p:sp>
        <p:nvSpPr>
          <p:cNvPr id="213" name=""/>
          <p:cNvSpPr/>
          <p:nvPr/>
        </p:nvSpPr>
        <p:spPr>
          <a:xfrm>
            <a:off x="5410080" y="152280"/>
            <a:ext cx="3429000" cy="7878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ick Riordan</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Brandon Mull</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oald Dahl</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ornelia Funke</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Kate DiCamillo</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JK Rowling</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hristopher Paoloni</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14" name=""/>
          <p:cNvSpPr txBox="1"/>
          <p:nvPr/>
        </p:nvSpPr>
        <p:spPr>
          <a:xfrm>
            <a:off x="2057400" y="4267080"/>
            <a:ext cx="3352680" cy="199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ood Job!!</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215" name="" descr=""/>
          <p:cNvPicPr/>
          <p:nvPr/>
        </p:nvPicPr>
        <p:blipFill>
          <a:blip r:embed="rId21"/>
          <a:stretch/>
        </p:blipFill>
        <p:spPr>
          <a:xfrm>
            <a:off x="8610480" y="6400800"/>
            <a:ext cx="304920" cy="304920"/>
          </a:xfrm>
          <a:prstGeom prst="rect">
            <a:avLst/>
          </a:prstGeom>
          <a:ln w="0">
            <a:noFill/>
          </a:ln>
        </p:spPr>
      </p:pic>
      <p:sp>
        <p:nvSpPr>
          <p:cNvPr id="216" name=""/>
          <p:cNvSpPr/>
          <p:nvPr/>
        </p:nvSpPr>
        <p:spPr>
          <a:xfrm>
            <a:off x="3657600" y="2362320"/>
            <a:ext cx="609480" cy="30456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7" name=""/>
          <p:cNvSpPr/>
          <p:nvPr/>
        </p:nvSpPr>
        <p:spPr>
          <a:xfrm>
            <a:off x="1752480" y="2133720"/>
            <a:ext cx="1295640" cy="15228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8" name=""/>
          <p:cNvSpPr/>
          <p:nvPr/>
        </p:nvSpPr>
        <p:spPr>
          <a:xfrm>
            <a:off x="1981080" y="6019920"/>
            <a:ext cx="1219320" cy="75960"/>
          </a:xfrm>
          <a:prstGeom prst="rect">
            <a:avLst/>
          </a:prstGeom>
          <a:solidFill>
            <a:srgbClr val="d5b781"/>
          </a:solidFill>
          <a:ln w="9360">
            <a:solidFill>
              <a:srgbClr val="2f1311"/>
            </a:solidFill>
            <a:miter/>
          </a:ln>
        </p:spPr>
        <p:style>
          <a:lnRef idx="0"/>
          <a:fillRef idx="0"/>
          <a:effectRef idx="0"/>
          <a:fontRef idx="minor"/>
        </p:style>
        <p:txBody>
          <a:bodyPr wrap="none" lIns="90000" rIns="90000" tIns="29160" bIns="29160" anchor="ctr">
            <a:noAutofit/>
          </a:bodyPr>
          <a:p>
            <a:endParaRPr b="0" lang="en-US" sz="1800" spc="-1" strike="noStrike">
              <a:solidFill>
                <a:srgbClr val="2f1311"/>
              </a:solidFill>
              <a:latin typeface="Arial"/>
            </a:endParaRPr>
          </a:p>
        </p:txBody>
      </p:sp>
      <p:sp>
        <p:nvSpPr>
          <p:cNvPr id="219" name=""/>
          <p:cNvSpPr/>
          <p:nvPr/>
        </p:nvSpPr>
        <p:spPr>
          <a:xfrm>
            <a:off x="152280" y="5867280"/>
            <a:ext cx="1371600" cy="22860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0" name=""/>
          <p:cNvSpPr/>
          <p:nvPr/>
        </p:nvSpPr>
        <p:spPr>
          <a:xfrm>
            <a:off x="380880" y="3962520"/>
            <a:ext cx="1219320" cy="75960"/>
          </a:xfrm>
          <a:prstGeom prst="rect">
            <a:avLst/>
          </a:prstGeom>
          <a:solidFill>
            <a:srgbClr val="d5b781"/>
          </a:solidFill>
          <a:ln w="9360">
            <a:solidFill>
              <a:srgbClr val="2f1311"/>
            </a:solidFill>
            <a:miter/>
          </a:ln>
        </p:spPr>
        <p:style>
          <a:lnRef idx="0"/>
          <a:fillRef idx="0"/>
          <a:effectRef idx="0"/>
          <a:fontRef idx="minor"/>
        </p:style>
        <p:txBody>
          <a:bodyPr wrap="none" lIns="90000" rIns="90000" tIns="29160" bIns="29160" anchor="ctr">
            <a:noAutofit/>
          </a:bodyPr>
          <a:p>
            <a:endParaRPr b="0" lang="en-US" sz="1800" spc="-1" strike="noStrike">
              <a:solidFill>
                <a:srgbClr val="2f1311"/>
              </a:solidFill>
              <a:latin typeface="Arial"/>
            </a:endParaRPr>
          </a:p>
        </p:txBody>
      </p:sp>
      <p:sp>
        <p:nvSpPr>
          <p:cNvPr id="221" name=""/>
          <p:cNvSpPr/>
          <p:nvPr/>
        </p:nvSpPr>
        <p:spPr>
          <a:xfrm>
            <a:off x="380880" y="1523880"/>
            <a:ext cx="990720" cy="15264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2" name=""/>
          <p:cNvSpPr/>
          <p:nvPr/>
        </p:nvSpPr>
        <p:spPr>
          <a:xfrm>
            <a:off x="1828800" y="1828800"/>
            <a:ext cx="1143000" cy="15228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3" name=""/>
          <p:cNvSpPr/>
          <p:nvPr/>
        </p:nvSpPr>
        <p:spPr>
          <a:xfrm>
            <a:off x="3505320" y="1752480"/>
            <a:ext cx="990360" cy="22860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pic>
        <p:nvPicPr>
          <p:cNvPr id="224" name="" descr=""/>
          <p:cNvPicPr/>
          <p:nvPr/>
        </p:nvPicPr>
        <p:blipFill>
          <a:blip r:embed="rId22"/>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4.16667E-006 -9.32223E-007 C -0.00035 0.00092 -0.00608 0.00971 -0.00122 0.01133 C 0.00156 0.01226 0.00434 0.00925 0.00712 0.00809 C 0.00955 0.00717 0.01441 0.00485 0.01441 0.00485 C 0.01597 0.01133 0.01858 0.01411 0.02292 0.01781 C 0.02604 0.02429 0.03003 0.03123 0.03489 0.03539 C 0.03819 0.04834 0.04878 0.05066 0.05538 0.05945 C 0.05156 0.07494 0.05851 0.08258 0.04566 0.08836 C 0.04219 0.09322 0.03889 0.09576 0.03611 0.10132 C 0.03646 0.10987 0.03594 0.11866 0.03733 0.12699 C 0.03837 0.13324 0.04601 0.13324 0.0493 0.13486 C 0.05868 0.13948 0.06979 0.14527 0.07951 0.14781 C 0.08316 0.14735 0.0868 0.14781 0.09028 0.14619 C 0.09583 0.14365 0.09983 0.13601 0.10469 0.13185 C 0.10764 0.12584 0.1118 0.12237 0.11562 0.11728 C 0.11858 0.10548 0.11441 0.11913 0.12048 0.10918 C 0.12118 0.10802 0.12118 0.10594 0.1217 0.10455 C 0.12309 0.10108 0.12552 0.09854 0.12639 0.09484 C 0.12934 0.08327 0.12673 0.08697 0.13246 0.08188 C 0.13646 0.06662 0.14236 0.07286 0.15538 0.07402 C 0.15903 0.07726 0.1625 0.07888 0.16614 0.08188 C 0.17205 0.09368 0.16423 0.0798 0.17344 0.08998 C 0.17743 0.09438 0.1776 0.1034 0.18073 0.10918 C 0.18281 0.11728 0.17986 0.1381 0.17951 0.14295 C 0.17899 0.1485 0.17587 0.15915 0.17587 0.15915 C 0.17917 0.17164 0.1743 0.15221 0.1783 0.17835 C 0.17986 0.18899 0.18333 0.19963 0.18906 0.20726 C 0.18941 0.20888 0.18941 0.21096 0.19028 0.21212 C 0.19236 0.21489 0.19757 0.21836 0.19757 0.21836 C 0.20069 0.23109 0.21389 0.23386 0.2217 0.2408 C 0.23125 0.24913 0.23889 0.24936 0.24809 0.25538 C 0.27014 0.27018 0.29496 0.27064 0.31927 0.27134 C 0.3434 0.27203 0.36736 0.27249 0.39149 0.27296 C 0.41545 0.27411 0.41875 0.26949 0.43368 0.27943 C 0.43628 0.28452 0.43958 0.28869 0.44219 0.29377 C 0.44253 0.29586 0.44253 0.29817 0.44323 0.30025 C 0.44444 0.30372 0.44809 0.30997 0.44809 0.30997 C 0.45139 0.32708 0.45104 0.32523 0.46146 0.33564 C 0.46667 0.34675 0.47986 0.3442 0.48906 0.34837 C 0.50538 0.34536 0.52257 0.34073 0.53854 0.34675 C 0.57378 0.34559 0.60955 0.34906 0.64444 0.34212 C 0.65399 0.34027 0.66163 0.33518 0.67222 0.33402 C 0.67726 0.3324 0.68073 0.33009 0.68542 0.32755 C 0.68785 0.32616 0.69271 0.32431 0.69271 0.32431 C 0.69618 0.31968 0.69878 0.31691 0.70347 0.31482 C 0.70521 0.30765 0.71024 0.3021 0.71562 0.30025 C 0.72257 0.28614 0.71302 0.30395 0.7217 0.29239 C 0.72274 0.291 0.72274 0.28869 0.72396 0.28753 C 0.72743 0.28452 0.7375 0.28221 0.74219 0.28105 C 0.74983 0.28151 0.75746 0.28151 0.76493 0.28267 C 0.76753 0.28313 0.77222 0.28591 0.77222 0.28591 C 0.77448 0.29493 0.7776 0.29562 0.7842 0.29863 C 0.78542 0.29909 0.78785 0.30025 0.78785 0.30025 C 0.79826 0.29979 0.80885 0.30002 0.81927 0.29863 C 0.83003 0.29724 0.82864 0.29377 0.84323 0.29377 E">
                                      <p:cBhvr>
                                        <p:cTn id="6" dur="2000" fill="hold"/>
                                        <p:tgtEl>
                                          <p:spTgt spid="196"/>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05556E-006 1.96623E-007 C 0.00034 0.00324 0.00052 0.00647 0.00121 0.00971 C 0.00156 0.01156 0.0033 0.01249 0.00347 0.01434 C 0.00434 0.02128 0.00347 0.02868 0.00468 0.03516 C 0.00503 0.03747 0.00729 0.03817 0.00833 0.04002 C 0.01527 0.05181 0.00972 0.04811 0.01684 0.05135 C 0.02118 0.06847 0.03229 0.08466 0.04566 0.08836 C 0.07465 0.08674 0.06649 0.09091 0.08177 0.08027 C 0.08507 0.07379 0.08698 0.06731 0.09027 0.06107 C 0.09114 0.05737 0.0967 0.04256 0.09878 0.04164 C 0.10312 0.03955 0.10573 0.03886 0.10955 0.03377 C 0.11076 0.03215 0.11146 0.02938 0.11319 0.02891 C 0.11944 0.02706 0.12604 0.02776 0.13246 0.02729 C 0.13767 0.02776 0.14288 0.02822 0.14809 0.02891 C 0.15139 0.02938 0.15503 0.02845 0.15781 0.03053 C 0.16024 0.03238 0.16041 0.03724 0.1625 0.04002 C 0.16649 0.04534 0.16823 0.05089 0.17222 0.05621 C 0.17309 0.05968 0.17517 0.06222 0.17587 0.06569 C 0.17673 0.06939 0.17656 0.07333 0.17708 0.07703 C 0.17847 0.08582 0.18385 0.09276 0.18541 0.10108 C 0.18854 0.11728 0.19705 0.12815 0.20712 0.13648 C 0.21198 0.14041 0.21736 0.14827 0.22274 0.15082 C 0.22604 0.15753 0.23177 0.15961 0.23611 0.16539 C 0.24132 0.17233 0.24184 0.17811 0.2493 0.18135 C 0.25295 0.18089 0.25677 0.18135 0.26024 0.17973 C 0.2618 0.17904 0.26232 0.17603 0.26371 0.17488 C 0.26475 0.17395 0.26614 0.17372 0.26736 0.17326 C 0.27083 0.16655 0.27343 0.16701 0.27951 0.16539 C 0.28073 0.16424 0.28177 0.16308 0.28298 0.16215 C 0.2842 0.16146 0.28559 0.16146 0.28663 0.16053 C 0.2868 0.1603 0.29323 0.1529 0.29392 0.15244 C 0.29739 0.1455 0.30295 0.14504 0.30833 0.14133 C 0.31284 0.13833 0.31562 0.1337 0.32048 0.13162 C 0.32361 0.11705 0.33784 0.10779 0.34809 0.10432 C 0.35607 0.10479 0.36423 0.10502 0.37222 0.10594 C 0.37882 0.10664 0.39062 0.12144 0.39878 0.12514 C 0.41267 0.1381 0.40468 0.15452 0.4059 0.18135 C 0.40625 0.18876 0.41059 0.19824 0.41562 0.20055 C 0.41962 0.20842 0.42031 0.20888 0.4276 0.20703 C 0.43368 0.20171 0.43923 0.19292 0.44323 0.18459 C 0.44514 0.15359 0.45434 0.09692 0.43003 0.07541 C 0.42604 0.06731 0.42396 0.06338 0.41805 0.05783 C 0.41232 0.04649 0.41562 0.05019 0.40955 0.04487 C 0.40798 0.03863 0.40434 0.03631 0.40225 0.03053 C 0.39913 0.02174 0.39531 0.01457 0.39149 0.00647 C 0.38889 0.00115 0.38802 -0.0044 0.38541 -0.00972 C 0.38507 -0.0118 0.38489 -0.01411 0.3842 -0.01596 C 0.38298 -0.01966 0.37951 -0.02568 0.37951 -0.02568 C 0.37743 -0.03632 0.37413 -0.04488 0.37222 -0.05644 C 0.37465 -0.06894 0.38021 -0.07194 0.38784 -0.07865 C 0.39479 -0.09253 0.38559 -0.07611 0.39392 -0.08513 C 0.39913 -0.09068 0.3967 -0.09392 0.40468 -0.09623 C 0.41007 -0.10155 0.41441 -0.10826 0.41805 -0.11566 C 0.42031 -0.12584 0.42205 -0.13232 0.4276 -0.13972 C 0.43003 -0.14805 0.43368 -0.15175 0.43732 -0.15892 C 0.43767 -0.16262 0.43837 -0.16655 0.43837 -0.17025 C 0.43837 -0.17835 0.43524 -0.17673 0.44201 -0.18298 C 0.44531 -0.19616 0.44132 -0.20033 0.43368 -0.20703 C 0.43125 -0.20912 0.42882 -0.21143 0.42639 -0.21351 C 0.42517 -0.2149 0.42274 -0.21675 0.42274 -0.21675 C 0.42205 -0.21837 0.42152 -0.22045 0.42048 -0.22161 C 0.41823 -0.22438 0.41319 -0.22808 0.41319 -0.22808 C 0.40677 -0.24011 0.39548 -0.24451 0.38906 -0.25677 C 0.38819 -0.26024 0.38559 -0.26278 0.38541 -0.26648 C 0.38472 -0.28013 0.3868 -0.28476 0.39027 -0.2954 C 0.3908 -0.29702 0.39045 -0.2991 0.39149 -0.30026 C 0.39288 -0.30164 0.39479 -0.30141 0.39635 -0.30188 C 0.40208 -0.30697 0.40468 -0.3139 0.41076 -0.31784 C 0.4217 -0.33981 0.44809 -0.33357 0.46371 -0.33403 C 0.48038 -0.33472 0.49757 -0.33496 0.51423 -0.33542 C 0.51962 -0.33773 0.52482 -0.33958 0.53003 -0.34189 C 0.53142 -0.34259 0.53229 -0.34444 0.53368 -0.34513 C 0.53593 -0.34652 0.54097 -0.34837 0.54097 -0.34837 C 0.55225 -0.35855 0.54479 -0.35277 0.55173 -0.36595 C 0.55208 -0.36757 0.55173 -0.37012 0.55295 -0.37081 C 0.55416 -0.3715 0.55538 -0.36942 0.55659 -0.36919 C 0.56146 -0.3678 0.571 -0.36595 0.571 -0.36595 C 0.57534 -0.36202 0.58402 -0.35716 0.58906 -0.35485 C 0.59496 -0.34305 0.58715 -0.35693 0.59618 -0.34675 C 0.59982 -0.34282 0.59878 -0.33611 0.60208 -0.33241 C 0.60312 -0.33149 0.61041 -0.32917 0.61076 -0.32917 C 0.62014 -0.3264 0.62725 -0.32524 0.63732 -0.32431 C 0.64531 -0.32709 0.65347 -0.32871 0.66146 -0.33079 C 0.67066 -0.33588 0.67899 -0.33889 0.68906 -0.34028 C 0.69253 -0.34722 0.70034 -0.35485 0.7059 -0.35971 C 0.70937 -0.36618 0.71684 -0.37127 0.72274 -0.37405 C 0.74444 -0.37289 0.7493 -0.37382 0.76614 -0.37081 C 0.77482 -0.36919 0.7842 -0.36341 0.79271 -0.36271 C 0.80468 -0.36179 0.81684 -0.36179 0.82882 -0.36133 C 0.83854 -0.36248 0.846 -0.36156 0.85295 -0.37081 E">
                                      <p:cBhvr>
                                        <p:cTn id="10" dur="2000" fill="hold"/>
                                        <p:tgtEl>
                                          <p:spTgt spid="207"/>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1.38889E-006 -5.09137E-006 C 0.00139 0.00787 0.0007 0.01619 0.00243 0.02405 C 0.00365 0.02937 0.01702 0.03377 0.0217 0.03701 C 0.02813 0.03654 0.03472 0.03724 0.04097 0.03539 C 0.04184 0.03516 0.04601 0.02382 0.04827 0.02081 C 0.05156 0.0067 0.05191 -0.00856 0.05538 -0.02244 C 0.0559 -0.04072 0.04948 -0.06686 0.06268 -0.07865 C 0.06441 -0.08536 0.07083 -0.09323 0.07587 -0.09623 C 0.07813 -0.09762 0.08316 -0.09947 0.08316 -0.09947 C 0.09184 -0.09554 0.09462 -0.08606 0.10122 -0.07865 C 0.10452 -0.07495 0.10851 -0.0738 0.11198 -0.07056 C 0.11406 -0.07102 0.11632 -0.07079 0.11806 -0.07218 C 0.12101 -0.07472 0.12188 -0.0812 0.12535 -0.08189 C 0.1316 -0.08328 0.13733 -0.08559 0.1434 -0.08837 C 0.14705 -0.08999 0.14757 -0.093 0.15052 -0.09623 C 0.15417 -0.1004 0.15816 -0.10132 0.16268 -0.10271 C 0.1684 -0.11289 0.1717 -0.12353 0.17587 -0.13487 C 0.17778 -0.14713 0.18143 -0.16124 0.18681 -0.17165 C 0.18837 -0.1802 0.19045 -0.18899 0.19271 -0.19732 C 0.19393 -0.20634 0.19583 -0.21513 0.20122 -0.22161 C 0.20382 -0.22462 0.20677 -0.22693 0.20955 -0.22948 C 0.21111 -0.23109 0.21441 -0.23433 0.21441 -0.23433 C 0.21632 -0.24174 0.21806 -0.23989 0.22292 -0.24405 C 0.22743 -0.25261 0.23004 -0.25307 0.23611 -0.25839 C 0.24497 -0.25608 0.25261 -0.25099 0.26146 -0.24868 C 0.27952 -0.24914 0.29757 -0.24821 0.31563 -0.25029 C 0.31702 -0.25053 0.32413 -0.25885 0.32778 -0.26001 C 0.32934 -0.26695 0.33247 -0.26764 0.33733 -0.26973 C 0.33768 -0.27181 0.3375 -0.27435 0.33854 -0.27597 C 0.33941 -0.27736 0.34115 -0.27643 0.34219 -0.27759 C 0.34375 -0.27921 0.34445 -0.28222 0.34583 -0.28407 C 0.34688 -0.28546 0.34809 -0.28615 0.34931 -0.28731 C 0.35208 -0.29286 0.35573 -0.29517 0.35903 -0.30026 C 0.3632 -0.30674 0.36702 -0.31321 0.36979 -0.32108 C 0.37188 -0.32709 0.37049 -0.32802 0.37222 -0.33542 C 0.37431 -0.34467 0.37795 -0.3574 0.38316 -0.36434 C 0.39097 -0.37475 0.40018 -0.38492 0.40955 -0.39325 C 0.41198 -0.39533 0.41441 -0.39765 0.41684 -0.39973 C 0.41806 -0.40088 0.42049 -0.40297 0.42049 -0.40297 C 0.42292 -0.41291 0.43038 -0.41615 0.43611 -0.42217 C 0.4441 -0.43072 0.44479 -0.4335 0.45417 -0.43975 C 0.45903 -0.44969 0.46268 -0.44599 0.47222 -0.4446 C 0.47813 -0.44229 0.4849 -0.4409 0.49028 -0.43651 C 0.49323 -0.43396 0.49879 -0.42864 0.49879 -0.42864 C 0.50556 -0.42911 0.5125 -0.42911 0.51927 -0.43026 C 0.52413 -0.43119 0.52986 -0.43512 0.5349 -0.43651 C 0.53889 -0.44183 0.54202 -0.44275 0.54705 -0.44622 C 0.55087 -0.45432 0.55278 -0.46357 0.5566 -0.4719 C 0.55816 -0.47514 0.56146 -0.48162 0.56146 -0.48162 C 0.55972 -0.4948 0.55643 -0.49758 0.54931 -0.50729 C 0.54809 -0.50891 0.54722 -0.51099 0.54583 -0.51215 C 0.54323 -0.51423 0.54132 -0.51793 0.53854 -0.52001 C 0.53629 -0.52163 0.53125 -0.52325 0.53125 -0.52325 C 0.525 -0.52904 0.52865 -0.53019 0.53368 -0.53459 C 0.53785 -0.54292 0.5434 -0.54893 0.55052 -0.55217 C 0.56181 -0.54962 0.55695 -0.54916 0.56389 -0.54106 C 0.56597 -0.53852 0.57101 -0.53459 0.57101 -0.53459 C 0.57969 -0.51724 0.60261 -0.52927 0.61441 -0.52973 C 0.62361 -0.53389 0.61719 -0.54662 0.62535 -0.55055 C 0.6316 -0.55356 0.62778 -0.55124 0.63611 -0.55865 C 0.6375 -0.5598 0.6382 -0.56235 0.63976 -0.5635 C 0.64202 -0.56512 0.64705 -0.56674 0.64705 -0.56674 C 0.65538 -0.56628 0.66389 -0.56651 0.67222 -0.56512 C 0.67865 -0.5642 0.67743 -0.5605 0.68316 -0.55865 C 0.6882 -0.55703 0.69358 -0.55679 0.69879 -0.55541 C 0.70243 -0.55217 0.7059 -0.55055 0.70955 -0.54731 C 0.71111 -0.54106 0.71215 -0.5295 0.71563 -0.52487 C 0.71736 -0.52256 0.72222 -0.51955 0.72413 -0.5184 C 0.73681 -0.51932 0.74636 -0.51978 0.75781 -0.52487 C 0.75868 -0.52649 0.75903 -0.5288 0.76024 -0.52973 C 0.7625 -0.53158 0.76754 -0.53297 0.76754 -0.53297 C 0.77344 -0.53852 0.78177 -0.54176 0.78681 -0.54893 C 0.79132 -0.55541 0.7934 -0.5605 0.8 -0.5635 C 0.80573 -0.56165 0.80886 -0.56026 0.81563 -0.56026 C 0.81684 -0.56026 0.81927 -0.56188 0.81927 -0.56188 E">
                                      <p:cBhvr>
                                        <p:cTn id="14" dur="2000" fill="hold"/>
                                        <p:tgtEl>
                                          <p:spTgt spid="197"/>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33333E-007 -6.03747E-006 C 0.00087 0.00161 0.00139 0.00346 0.00243 0.00485 C 0.00347 0.00624 0.00521 0.00647 0.00608 0.00809 C 0.00694 0.00948 0.00677 0.01133 0.00729 0.01295 C 0.00937 0.01873 0.01094 0.02289 0.01441 0.02729 C 0.01892 0.04533 0.01667 0.06916 0.01805 0.08836 C 0.01875 0.09877 0.01996 0.10571 0.02778 0.10918 C 0.02934 0.11241 0.0309 0.11681 0.03368 0.11889 C 0.03594 0.12051 0.03871 0.12051 0.04097 0.12213 C 0.04635 0.12583 0.05208 0.1293 0.05781 0.13161 C 0.05903 0.13277 0.06007 0.13485 0.06146 0.13485 C 0.07708 0.13531 0.09288 0.13555 0.10851 0.13323 C 0.11146 0.13277 0.12361 0.12074 0.12778 0.11889 C 0.13368 0.11334 0.13038 0.11727 0.13611 0.10594 C 0.13767 0.1027 0.14097 0.10177 0.1434 0.09969 C 0.14948 0.09437 0.14496 0.09599 0.1493 0.08998 C 0.15035 0.08859 0.15191 0.08789 0.15295 0.08674 C 0.15434 0.08535 0.15555 0.08373 0.1566 0.08188 C 0.15746 0.08049 0.15799 0.07841 0.15903 0.07725 C 0.1651 0.07054 0.17396 0.06684 0.17951 0.05944 C 0.18333 0.05435 0.1842 0.04903 0.18924 0.04672 C 0.19045 0.04834 0.19201 0.04949 0.19271 0.05135 C 0.1941 0.05528 0.19253 0.06152 0.19514 0.0643 C 0.19653 0.06569 0.19844 0.06546 0.2 0.06592 C 0.21267 0.06453 0.22257 0.06522 0.2349 0.06754 C 0.2401 0.07101 0.24635 0.07309 0.25052 0.07864 C 0.25503 0.08466 0.26146 0.09206 0.26753 0.09483 C 0.27483 0.10501 0.27292 0.12722 0.27344 0.13971 C 0.27378 0.18574 0.27396 0.23178 0.27465 0.27781 C 0.27483 0.29261 0.27917 0.29909 0.28924 0.30348 C 0.30365 0.30279 0.31944 0.30348 0.33368 0.29863 C 0.33455 0.29701 0.33507 0.29516 0.33611 0.29377 C 0.33715 0.29238 0.33889 0.29192 0.33976 0.29053 C 0.34097 0.28868 0.34097 0.2859 0.34219 0.28429 C 0.34462 0.28105 0.35052 0.27619 0.35052 0.27619 C 0.35382 0.26324 0.34896 0.27827 0.35538 0.26971 C 0.35625 0.26856 0.3559 0.26624 0.3566 0.26485 C 0.36094 0.25444 0.3592 0.2563 0.3651 0.25375 C 0.36944 0.24797 0.37413 0.24542 0.37951 0.2408 C 0.38073 0.23964 0.38316 0.23756 0.38316 0.23756 C 0.38976 0.22507 0.39653 0.22484 0.40729 0.22322 C 0.4375 0.22414 0.45538 0.22113 0.48073 0.22969 C 0.48663 0.23548 0.49167 0.2401 0.49878 0.24242 C 0.50451 0.24751 0.50104 0.24519 0.50955 0.24889 C 0.51076 0.24936 0.51319 0.25051 0.51319 0.25051 C 0.51788 0.25977 0.51736 0.27341 0.51805 0.28429 C 0.51875 0.29631 0.51597 0.31482 0.52656 0.31945 C 0.53854 0.31875 0.55191 0.32361 0.56267 0.31644 C 0.58055 0.30464 0.56267 0.3132 0.57344 0.30834 C 0.57621 0.30279 0.58142 0.29585 0.58559 0.29215 C 0.58715 0.28822 0.59184 0.2785 0.58924 0.27457 E">
                                      <p:cBhvr>
                                        <p:cTn id="18" dur="2000" fill="hold"/>
                                        <p:tgtEl>
                                          <p:spTgt spid="208"/>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2.22222E-006 -2.45431E-006 C 0.00225 0.00902 0.00434 0.01804 0.00607 0.0273 C 0.00573 0.02938 0.00469 0.03146 0.00486 0.03377 C 0.00555 0.03956 0.00833 0.03794 0.01094 0.04002 C 0.02378 0.0495 0.01354 0.04442 0.0217 0.04812 C 0.0316 0.05806 0.03472 0.05668 0.04705 0.05945 C 0.0526 0.05899 0.05833 0.05945 0.06389 0.05783 C 0.06944 0.05598 0.07344 0.03401 0.07604 0.02892 C 0.08055 0.0199 0.08715 0.0155 0.09288 0.00787 C 0.09462 0.00162 0.09722 0.00208 0.10121 -0.00162 C 0.10712 -0.00092 0.11771 -0.00208 0.12291 0.00486 C 0.1243 0.00671 0.12517 0.00925 0.12656 0.01111 C 0.12882 0.01458 0.13385 0.02082 0.13385 0.02082 C 0.13559 0.02753 0.13819 0.03401 0.14097 0.04002 C 0.14271 0.04904 0.14236 0.05853 0.14462 0.06732 C 0.14375 0.08883 0.14653 0.11705 0.1375 0.13648 C 0.13524 0.14828 0.13455 0.14944 0.1375 0.16702 C 0.13785 0.16887 0.13993 0.16887 0.14097 0.17002 C 0.14236 0.17141 0.1434 0.17326 0.14462 0.17488 C 0.15104 0.20056 0.1868 0.17928 0.20486 0.1765 C 0.21371 0.17349 0.22239 0.17141 0.23142 0.17002 C 0.23264 0.16956 0.23385 0.16887 0.23507 0.1684 C 0.23663 0.16794 0.23819 0.16771 0.23975 0.16702 C 0.24219 0.16609 0.24705 0.16378 0.24705 0.16378 C 0.25364 0.15499 0.2625 0.15105 0.26996 0.14435 C 0.27274 0.13903 0.27656 0.13671 0.27969 0.13162 C 0.28524 0.1226 0.28923 0.1108 0.29653 0.10433 C 0.2993 0.09299 0.29653 0.09577 0.30243 0.09299 C 0.30364 0.09137 0.30469 0.08952 0.30607 0.08814 C 0.30712 0.08698 0.30868 0.08652 0.30972 0.08513 C 0.31857 0.07356 0.30538 0.08628 0.3158 0.07703 C 0.32135 0.0657 0.31805 0.0694 0.32413 0.06408 C 0.33021 0.05228 0.32187 0.06685 0.33142 0.05621 C 0.33871 0.04812 0.32882 0.05367 0.3375 0.04974 C 0.34132 0.04164 0.33854 0.04603 0.34705 0.0384 C 0.34948 0.03632 0.35434 0.03216 0.35434 0.03216 C 0.37778 0.03331 0.38229 0.02984 0.39774 0.03678 C 0.4 0.03886 0.40295 0.0391 0.40486 0.04164 C 0.40677 0.04418 0.40677 0.04858 0.4085 0.05136 C 0.41076 0.05482 0.4158 0.06084 0.4158 0.06084 C 0.41614 0.06847 0.41597 0.07611 0.41701 0.08351 C 0.41805 0.09184 0.42778 0.09646 0.43142 0.10271 C 0.43819 0.11427 0.43298 0.11104 0.43975 0.11381 C 0.44375 0.11913 0.44896 0.12283 0.45434 0.12515 C 0.45955 0.12468 0.46493 0.12515 0.46996 0.12353 C 0.47274 0.1226 0.47448 0.11821 0.47725 0.11705 C 0.47951 0.11497 0.48229 0.11335 0.48437 0.1108 C 0.49236 0.1004 0.48021 0.11173 0.49045 0.10109 C 0.49653 0.09484 0.5026 0.0886 0.5085 0.08189 C 0.51475 0.07495 0.51371 0.07287 0.5217 0.0657 C 0.52291 0.06454 0.52535 0.06246 0.52535 0.06246 C 0.52621 0.06084 0.52673 0.05899 0.52778 0.05783 C 0.53003 0.05529 0.53507 0.05136 0.53507 0.05136 C 0.54948 0.05182 0.56406 0.05089 0.57847 0.05297 C 0.58281 0.05367 0.58194 0.06408 0.58559 0.06732 C 0.59548 0.07611 0.58993 0.07379 0.60243 0.07379 E">
                                      <p:cBhvr>
                                        <p:cTn id="22" dur="2000" fill="hold"/>
                                        <p:tgtEl>
                                          <p:spTgt spid="209"/>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8.33333E-007 -1.51284E-006 C -0.00278 0.01087 -0.00191 0.00555 -8.33333E-007 0.02568 C 0.00104 0.03632 0.00504 0.05043 0.0132 0.05459 C 0.01511 0.05552 0.01719 0.05552 0.01927 0.05621 C 0.02049 0.05668 0.02153 0.05714 0.02274 0.05783 C 0.0283 0.06061 0.03264 0.06269 0.03854 0.06431 C 0.0474 0.06917 0.05677 0.0731 0.06615 0.07541 C 0.07222 0.07495 0.0783 0.07564 0.0842 0.07403 C 0.08611 0.07356 0.08715 0.07009 0.08906 0.06917 C 0.09566 0.06593 0.1007 0.06685 0.10712 0.06269 C 0.11285 0.05136 0.12604 0.0384 0.1349 0.03054 C 0.13681 0.0266 0.13767 0.02175 0.13976 0.01781 C 0.14063 0.0162 0.14219 0.01573 0.14323 0.01458 C 0.15504 0.00047 0.14618 0.00879 0.15417 0.00162 C 0.1559 -0.00185 0.16111 -0.00925 0.16372 -0.0111 C 0.16597 -0.01272 0.16858 -0.01318 0.17101 -0.01434 C 0.17222 -0.0148 0.17465 -0.01596 0.17465 -0.01596 C 0.19323 -0.01388 0.20139 -0.01249 0.21684 -0.00948 C 0.22379 -0.00647 0.2309 -0.00162 0.23733 0.00324 C 0.24965 0.01249 0.23993 0.00764 0.24809 0.01134 C 0.25295 0.0162 0.25573 0.0192 0.26146 0.02105 C 0.27083 0.03354 0.26649 0.02915 0.27344 0.03539 C 0.27431 0.04025 0.27413 0.04534 0.27587 0.04974 C 0.27656 0.05182 0.27847 0.05274 0.27951 0.05459 C 0.28576 0.06454 0.29219 0.07426 0.3 0.08189 C 0.30434 0.09114 0.31285 0.09508 0.31927 0.10132 C 0.32066 0.10248 0.32136 0.10479 0.32274 0.10595 C 0.33177 0.11381 0.34601 0.12029 0.3566 0.12376 C 0.36858 0.1233 0.38073 0.12353 0.39271 0.12214 C 0.39531 0.12191 0.4 0.1189 0.4 0.1189 C 0.40278 0.11613 0.40556 0.11358 0.40833 0.11081 C 0.41042 0.10872 0.41302 0.10872 0.41563 0.10757 C 0.41684 0.1071 0.41927 0.10595 0.41927 0.10595 C 0.42274 0.10248 0.42274 0.10202 0.42761 0.0997 C 0.43004 0.09855 0.4349 0.09646 0.4349 0.09646 C 0.43941 0.09161 0.44271 0.08744 0.44809 0.08513 C 0.44983 0.07796 0.45556 0.07333 0.46024 0.06917 C 0.46406 0.05413 0.46146 0.03979 0.46146 0.02406 E">
                                      <p:cBhvr>
                                        <p:cTn id="26" dur="2000" fill="hold"/>
                                        <p:tgtEl>
                                          <p:spTgt spid="210"/>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8.33333E-007 -1.51284E-006 C -0.00278 0.0148 -0.00729 0.02822 -0.00955 0.04325 C -0.01007 0.06546 -0.0165 0.11311 0.00243 0.13 C 0.00816 0.14157 0.01736 0.15036 0.02534 0.15891 C 0.04045 0.17488 0.05503 0.19546 0.07482 0.19916 C 0.0783 0.20078 0.08212 0.20055 0.08559 0.20217 C 0.08975 0.20425 0.0934 0.20842 0.09757 0.21027 C 0.09878 0.21073 0.1 0.21142 0.10121 0.21189 C 0.10121 0.21189 0.10712 0.22137 0.10729 0.2216 C 0.11215 0.22808 0.11979 0.23386 0.12534 0.23918 C 0.1283 0.24497 0.13177 0.24959 0.13507 0.25514 C 0.13767 0.26579 0.14444 0.27828 0.14948 0.2873 C 0.14982 0.28892 0.15 0.29077 0.15069 0.29216 C 0.15156 0.29401 0.15382 0.29493 0.15434 0.29701 C 0.15538 0.30095 0.15521 0.30557 0.15555 0.30974 C 0.15434 0.33703 0.15364 0.35461 0.13628 0.3708 C 0.1335 0.37636 0.12951 0.37844 0.12656 0.38376 C 0.12083 0.39417 0.11944 0.40874 0.11094 0.41568 C 0.1085 0.42517 0.09844 0.43881 0.09288 0.44622 C 0.09045 0.4557 0.09357 0.44691 0.08802 0.45431 C 0.0835 0.46033 0.08159 0.46727 0.07951 0.47513 C 0.08038 0.48253 0.08055 0.49017 0.08194 0.49757 C 0.0835 0.50659 0.096 0.51099 0.10243 0.51376 C 0.21458 0.51307 0.31805 0.5089 0.42534 0.5089 E">
                                      <p:cBhvr>
                                        <p:cTn id="30" dur="2000" fill="hold"/>
                                        <p:tgtEl>
                                          <p:spTgt spid="211"/>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4.72222E-006 -4.33264E-006 C -0.00243 0.01967 -0.00695 0.0421 0.00712 0.0546 C 0.01319 0.05413 0.01927 0.05436 0.02517 0.05298 C 0.0309 0.05182 0.02847 0.04072 0.03489 0.03516 C 0.03646 0.03193 0.03785 0.02846 0.03976 0.02568 C 0.04097 0.02406 0.04219 0.02267 0.04323 0.02082 C 0.0467 0.01527 0.04514 0.0118 0.05052 0.00949 C 0.05191 0.0037 0.05746 -0.003 0.06146 -0.00647 C 0.06337 -0.01017 0.06545 -0.01411 0.06736 -0.01781 C 0.06805 -0.0192 0.06771 -0.02151 0.06858 -0.02267 C 0.07274 -0.02822 0.07864 -0.03192 0.0842 -0.03377 C 0.09774 -0.02775 0.09618 -0.02775 0.10469 -0.01619 C 0.10608 -0.01434 0.10712 -0.01202 0.10833 -0.00971 C 0.11007 -0.00647 0.11319 -4.33264E-006 0.11319 -4.33264E-006 C 0.11476 0.00995 0.11458 0.01967 0.11805 0.02892 C 0.12066 0.06524 0.12014 0.05159 0.11805 0.11219 C 0.11788 0.11798 0.11337 0.1233 0.11198 0.12839 C 0.10677 0.14666 0.09878 0.16401 0.09514 0.18298 C 0.09601 0.20218 0.09618 0.22971 0.10469 0.24705 C 0.12066 0.24613 0.13264 0.24705 0.14687 0.24081 C 0.14896 0.23271 0.15694 0.22485 0.16267 0.21976 C 0.16805 0.20495 0.16805 0.18853 0.15903 0.1765 C 0.15712 0.16887 0.15642 0.16725 0.15052 0.16517 C 0.14496 0.15429 0.14844 0.15684 0.14219 0.15406 C 0.13715 0.14736 0.13021 0.13995 0.12396 0.13486 C 0.12135 0.12931 0.11562 0.12191 0.11198 0.11705 C 0.1092 0.10572 0.11302 0.11983 0.10712 0.10595 C 0.0967 0.08189 0.10729 0.10178 0.09878 0.08652 C 0.09687 0.07888 0.09462 0.07171 0.09271 0.06408 C 0.09323 0.03678 0.08576 -0.00832 0.10712 -0.02729 C 0.11198 -0.03724 0.12066 -0.03585 0.12882 -0.03701 C 0.13368 -0.04348 0.13854 -0.04834 0.14323 -0.05459 C 0.14496 -0.06176 0.14878 -0.06685 0.15052 -0.07402 C 0.15121 -0.09252 0.14792 -0.11866 0.16267 -0.12861 C 0.17205 -0.14781 0.20642 -0.13347 0.21319 -0.13324 C 0.22673 -0.12167 0.21562 -0.13139 0.22396 -0.12375 C 0.22517 -0.1226 0.2276 -0.12051 0.2276 -0.12051 C 0.23038 -0.11496 0.23246 -0.11288 0.23733 -0.1108 C 0.23958 -0.10779 0.24097 -0.10432 0.24323 -0.10131 C 0.24687 -0.09646 0.25417 -0.09206 0.25903 -0.08998 C 0.27257 -0.09114 0.28542 -0.09299 0.29878 -0.09646 C 0.2993 -0.09854 0.30121 -0.10825 0.30347 -0.1108 C 0.30555 -0.11311 0.30851 -0.11357 0.31076 -0.11566 C 0.31719 -0.12167 0.31337 -0.11959 0.31927 -0.12213 C 0.3743 -0.1189 0.42951 -0.12375 0.4842 -0.12375 E">
                                      <p:cBhvr>
                                        <p:cTn id="34" dur="2000" fill="hold"/>
                                        <p:tgtEl>
                                          <p:spTgt spid="212"/>
                                        </p:tgtEl>
                                      </p:cBhvr>
                                    </p:animMotion>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3" presetSubtype="10">
                                  <p:stCondLst>
                                    <p:cond delay="0"/>
                                  </p:stCondLst>
                                  <p:childTnLst>
                                    <p:animEffect filter="blinds(horizontal)" transition="out">
                                      <p:cBhvr additive="repl">
                                        <p:cTn id="38" dur="500"/>
                                        <p:tgtEl>
                                          <p:spTgt spid="204"/>
                                        </p:tgtEl>
                                      </p:cBhvr>
                                    </p:animEffect>
                                    <p:set>
                                      <p:cBhvr>
                                        <p:cTn id="39" dur="1" fill="hold">
                                          <p:stCondLst>
                                            <p:cond delay="499"/>
                                          </p:stCondLst>
                                        </p:cTn>
                                        <p:tgtEl>
                                          <p:spTgt spid="204"/>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1">
                                  <p:stCondLst>
                                    <p:cond delay="0"/>
                                  </p:stCondLst>
                                  <p:childTnLst>
                                    <p:set>
                                      <p:cBhvr>
                                        <p:cTn id="43" dur="1" fill="hold">
                                          <p:stCondLst>
                                            <p:cond delay="0"/>
                                          </p:stCondLst>
                                        </p:cTn>
                                        <p:tgtEl>
                                          <p:spTgt spid="214"/>
                                        </p:tgtEl>
                                        <p:attrNameLst>
                                          <p:attrName>style.visibility</p:attrName>
                                        </p:attrNameLst>
                                      </p:cBhvr>
                                      <p:to>
                                        <p:strVal val="visible"/>
                                      </p:to>
                                    </p:set>
                                    <p:animEffect filter="fade" transition="in">
                                      <p:cBhvr additive="repl">
                                        <p:cTn id="44" dur="770"/>
                                        <p:tgtEl>
                                          <p:spTgt spid="214"/>
                                        </p:tgtEl>
                                      </p:cBhvr>
                                    </p:animEffect>
                                    <p:animScale>
                                      <p:cBhvr>
                                        <p:cTn id="45" dur="770" fill="hold"/>
                                        <p:tgtEl>
                                          <p:spTgt spid="214"/>
                                        </p:tgtEl>
                                      </p:cBhvr>
                                      <p:from x="10000" y="10000"/>
                                      <p:to x="200000" y="450000"/>
                                    </p:animScale>
                                    <p:animScale>
                                      <p:cBhvr>
                                        <p:cTn id="46" dur="1230" fill="hold">
                                          <p:stCondLst>
                                            <p:cond delay="770"/>
                                          </p:stCondLst>
                                        </p:cTn>
                                        <p:tgtEl>
                                          <p:spTgt spid="214"/>
                                        </p:tgtEl>
                                      </p:cBhvr>
                                      <p:from x="200000" y="450000"/>
                                      <p:to x="100000" y="100000"/>
                                    </p:animScale>
                                    <p:set>
                                      <p:cBhvr>
                                        <p:cTn id="47" dur="770" fill="hold"/>
                                        <p:tgtEl>
                                          <p:spTgt spid="214"/>
                                        </p:tgtEl>
                                        <p:attrNameLst>
                                          <p:attrName>ppt_x</p:attrName>
                                        </p:attrNameLst>
                                      </p:cBhvr>
                                      <p:to>
                                        <p:strVal val="(0.5)"/>
                                      </p:to>
                                    </p:set>
                                    <p:anim calcmode="lin" valueType="num" from="(0.5)" to="(#ppt_x)">
                                      <p:cBhvr additive="repl">
                                        <p:cTn id="48" dur="1230" fill="hold">
                                          <p:stCondLst>
                                            <p:cond delay="770"/>
                                          </p:stCondLst>
                                        </p:cTn>
                                        <p:tgtEl>
                                          <p:spTgt spid="214"/>
                                        </p:tgtEl>
                                        <p:attrNameLst>
                                          <p:attrName>ppt_x</p:attrName>
                                        </p:attrNameLst>
                                      </p:cBhvr>
                                    </p:anim>
                                    <p:set>
                                      <p:cBhvr>
                                        <p:cTn id="49" dur="770" fill="hold"/>
                                        <p:tgtEl>
                                          <p:spTgt spid="214"/>
                                        </p:tgtEl>
                                        <p:attrNameLst>
                                          <p:attrName>ppt_y</p:attrName>
                                        </p:attrNameLst>
                                      </p:cBhvr>
                                      <p:to>
                                        <p:strVal val="(#ppt_y+0.4)"/>
                                      </p:to>
                                    </p:set>
                                    <p:anim calcmode="lin" valueType="num" from="(#ppt_y+0.4)" to="(#ppt_y)">
                                      <p:cBhvr additive="repl">
                                        <p:cTn id="50" dur="1230" fill="hold">
                                          <p:stCondLst>
                                            <p:cond delay="770"/>
                                          </p:stCondLst>
                                        </p:cTn>
                                        <p:tgtEl>
                                          <p:spTgt spid="214"/>
                                        </p:tgtEl>
                                        <p:attrNameLst>
                                          <p:attrName>ppt_y</p:attrName>
                                        </p:attrNameLst>
                                      </p:cBhvr>
                                    </p:anim>
                                  </p:childTnLst>
                                </p:cTn>
                              </p:par>
                            </p:childTnLst>
                          </p:cTn>
                        </p:par>
                      </p:childTnLst>
                    </p:cTn>
                  </p:par>
                  <p:par>
                    <p:cTn id="51" fill="hold">
                      <p:stCondLst>
                        <p:cond delay="indefinite"/>
                      </p:stCondLst>
                      <p:childTnLst>
                        <p:par>
                          <p:cTn id="52" fill="hold">
                            <p:stCondLst>
                              <p:cond delay="0"/>
                            </p:stCondLst>
                            <p:childTnLst>
                              <p:par>
                                <p:cTn id="53" nodeType="clickEffect" fill="hold" presetClass="path" presetID="0">
                                  <p:stCondLst>
                                    <p:cond delay="0"/>
                                  </p:stCondLst>
                                  <p:childTnLst>
                                    <p:animMotion origin="layout" path="M 1.94444E-006 2.68332E-006 C 0.00261 -0.02059 0.00382 -0.03956 0.00122 -0.06084 C 0.00087 -0.06315 -0.00521 -0.08212 -0.00607 -0.08813 C -0.0066 -0.14088 -0.00937 -0.20518 -0.00729 -0.26001 C -0.00712 -0.26579 -0.0059 -0.26671 -0.00364 -0.27111 C -0.00156 -0.28221 -0.00278 -0.29401 1.94444E-006 -0.30488 C -0.00052 -0.32131 0.00573 -0.34583 -0.00607 -0.35624 C -0.00746 -0.36179 -0.01076 -0.36549 -0.01441 -0.36919 C -0.01667 -0.3715 -0.01927 -0.37358 -0.0217 -0.37567 C -0.02292 -0.37659 -0.02535 -0.37867 -0.02535 -0.37867 C -0.0342 -0.37821 -0.04305 -0.37844 -0.05173 -0.37705 C -0.05903 -0.3759 -0.06423 -0.36387 -0.06875 -0.35785 C -0.07048 -0.35068 -0.07361 -0.34606 -0.0783 -0.34189 C -0.08212 -0.32131 -0.08819 -0.3102 -0.09045 -0.28892 C -0.08906 -0.26648 -0.08906 -0.25445 -0.08437 -0.23595 C -0.08385 -0.23017 -0.08368 -0.21767 -0.08073 -0.21189 C -0.07691 -0.20426 -0.0691 -0.19847 -0.06267 -0.1957 C -0.05677 -0.18367 -0.04722 -0.18136 -0.03854 -0.17488 C -0.03246 -0.17048 -0.03455 -0.16887 -0.02778 -0.16516 C -0.00851 -0.15476 0.01337 -0.14296 0.03368 -0.13949 C 0.04792 -0.14041 0.07118 -0.13903 0.08438 -0.15082 C 0.09254 -0.16725 0.07969 -0.14319 0.09149 -0.15892 C 0.09549 -0.16424 0.09844 -0.17118 0.10243 -0.1765 C 0.10434 -0.1839 0.10781 -0.19177 0.11198 -0.19732 C 0.11389 -0.20495 0.11806 -0.21467 0.1217 -0.22138 C 0.12031 -0.23155 0.11754 -0.25515 0.11077 -0.26324 C 0.10833 -0.26625 0.1033 -0.26995 0.1 -0.27273 C 0.09879 -0.27389 0.09636 -0.27597 0.09636 -0.27597 C 0.07344 -0.27458 0.0757 -0.27828 0.06389 -0.27273 C 0.04653 -0.2644 0.07031 -0.2755 0.05052 -0.26648 C 0.04931 -0.26602 0.04705 -0.26486 0.04705 -0.26486 C 0.04167 -0.25075 0.03577 -0.2378 0.03125 -0.22299 C 0.02917 -0.20726 0.02413 -0.195 0.01806 -0.18136 C 0.01285 -0.1536 -0.01094 -0.15013 -0.02778 -0.14111 C -0.04601 -0.14203 -0.0618 -0.13255 -0.06753 -0.15568 C -0.06632 -0.16702 -0.06632 -0.17488 -0.05903 -0.18136 C -0.05625 -0.18691 -0.05486 -0.19177 -0.05069 -0.1957 C -0.04844 -0.20449 -0.04375 -0.20403 -0.03732 -0.20541 C -0.03177 -0.21073 -0.02795 -0.21582 -0.0217 -0.21814 C -0.02048 -0.21929 -0.01944 -0.22045 -0.01805 -0.22138 C -0.01684 -0.22207 -0.01545 -0.22207 -0.01441 -0.22299 C -0.01198 -0.22485 -0.00729 -0.22947 -0.00729 -0.22947 C -0.00642 -0.23109 -0.00503 -0.23248 -0.00486 -0.23433 C -0.00434 -0.23896 -0.00851 -0.24104 -0.00851 -0.24543 E">
                                      <p:cBhvr>
                                        <p:cTn id="54" dur="2000" fill="hold"/>
                                        <p:tgtEl>
                                          <p:spTgt spid="214"/>
                                        </p:tgtEl>
                                      </p:cBhvr>
                                    </p:animMotion>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2" presetSubtype="4">
                                  <p:stCondLst>
                                    <p:cond delay="0"/>
                                  </p:stCondLst>
                                  <p:childTnLst>
                                    <p:anim calcmode="lin" valueType="num">
                                      <p:cBhvr additive="base">
                                        <p:cTn id="58" dur="500"/>
                                        <p:tgtEl>
                                          <p:spTgt spid="214"/>
                                        </p:tgtEl>
                                        <p:attrNameLst>
                                          <p:attrName>ppt_x</p:attrName>
                                        </p:attrNameLst>
                                      </p:cBhvr>
                                      <p:tavLst>
                                        <p:tav tm="0">
                                          <p:val>
                                            <p:strVal val="#ppt_x"/>
                                          </p:val>
                                        </p:tav>
                                        <p:tav tm="100000">
                                          <p:val>
                                            <p:strVal val="#ppt_x"/>
                                          </p:val>
                                        </p:tav>
                                      </p:tavLst>
                                    </p:anim>
                                    <p:anim calcmode="lin" valueType="num">
                                      <p:cBhvr additive="base">
                                        <p:cTn id="59" dur="500"/>
                                        <p:tgtEl>
                                          <p:spTgt spid="214"/>
                                        </p:tgtEl>
                                        <p:attrNameLst>
                                          <p:attrName>ppt_y</p:attrName>
                                        </p:attrNameLst>
                                      </p:cBhvr>
                                      <p:tavLst>
                                        <p:tav tm="0">
                                          <p:val>
                                            <p:strVal val="#ppt_y"/>
                                          </p:val>
                                        </p:tav>
                                        <p:tav tm="100000">
                                          <p:val>
                                            <p:strVal val="1+#ppt_h/2"/>
                                          </p:val>
                                        </p:tav>
                                      </p:tavLst>
                                    </p:anim>
                                    <p:set>
                                      <p:cBhvr>
                                        <p:cTn id="60" dur="1" fill="hold">
                                          <p:stCondLst>
                                            <p:cond delay="4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 restart="whenNotActive" nodeType="interactiveSeq" fill="hold">
                <p:stCondLst>
                  <p:cond evt="onClick">
                    <p:tgtEl>
                      <p:spTgt spid="215"/>
                    </p:tgtEl>
                  </p:cond>
                </p:stCondLst>
                <p:childTnLst>
                  <p:par>
                    <p:cTn id="62" fill="hold">
                      <p:stCondLst>
                        <p:cond evt="onClick">
                          <p:tgtEl>
                            <p:spTgt spid="215"/>
                          </p:tgtEl>
                        </p:cond>
                      </p:stCondLst>
                      <p:childTnLst>
                        <p:par>
                          <p:cTn id="63" fill="hold">
                            <p:stCondLst>
                              <p:cond delay="0"/>
                            </p:stCondLst>
                            <p:childTnLst>
                              <p:par>
                                <p:cTn id="64" nodeType="clickEffect" fill="hold" presetClass="mediacall" presetID="1">
                                  <p:stCondLst>
                                    <p:cond delay="0"/>
                                  </p:stCondLst>
                                  <p:childTnLst>
                                    <p:cmd type="call" cmd="playFrom(0.0)">
                                      <p:cBhvr>
                                        <p:cTn id="65" dur="3039"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224"/>
                    </p:tgtEl>
                  </p:cond>
                </p:stCondLst>
                <p:childTnLst>
                  <p:par>
                    <p:cTn id="67" fill="hold">
                      <p:stCondLst>
                        <p:cond evt="onClick">
                          <p:tgtEl>
                            <p:spTgt spid="224"/>
                          </p:tgtEl>
                        </p:cond>
                      </p:stCondLst>
                      <p:childTnLst>
                        <p:par>
                          <p:cTn id="68" fill="hold">
                            <p:stCondLst>
                              <p:cond delay="0"/>
                            </p:stCondLst>
                            <p:childTnLst>
                              <p:par>
                                <p:cTn id="69" nodeType="clickEffect" fill="hold" presetClass="mediacall" presetID="1">
                                  <p:stCondLst>
                                    <p:cond delay="0"/>
                                  </p:stCondLst>
                                  <p:childTnLst>
                                    <p:cmd type="call" cmd="playFrom(0.0)">
                                      <p:cBhvr>
                                        <p:cTn id="70" dur="23323" fill="hold"/>
                                        <p:tgtEl>
                                          <p:spTgt spid="2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9240" y="226800"/>
            <a:ext cx="8696160" cy="487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   </a:t>
            </a:r>
            <a:br>
              <a:rPr sz="5400"/>
            </a:br>
            <a:r>
              <a:rPr b="0" lang="en-US" sz="5400" spc="-1" strike="noStrike">
                <a:solidFill>
                  <a:srgbClr val="f7d47d"/>
                </a:solidFill>
                <a:latin typeface="Arial"/>
              </a:rPr>
              <a:t> </a:t>
            </a:r>
            <a:r>
              <a:rPr b="0" lang="en-US" sz="5400" spc="-1" strike="noStrike">
                <a:solidFill>
                  <a:srgbClr val="f7d47d"/>
                </a:solidFill>
                <a:latin typeface="Arial"/>
              </a:rPr>
              <a:t>So How Did You Do?</a:t>
            </a:r>
            <a:endParaRPr b="0" lang="en-US" sz="5400" spc="-1" strike="noStrike">
              <a:solidFill>
                <a:srgbClr val="f7d47d"/>
              </a:solidFill>
              <a:latin typeface="Arial"/>
            </a:endParaRPr>
          </a:p>
        </p:txBody>
      </p:sp>
      <p:pic>
        <p:nvPicPr>
          <p:cNvPr id="226" name="" descr=""/>
          <p:cNvPicPr/>
          <p:nvPr/>
        </p:nvPicPr>
        <p:blipFill>
          <a:blip r:embed="rId1"/>
          <a:stretch/>
        </p:blipFill>
        <p:spPr>
          <a:xfrm>
            <a:off x="762120" y="3962520"/>
            <a:ext cx="1909800" cy="2057400"/>
          </a:xfrm>
          <a:prstGeom prst="rect">
            <a:avLst/>
          </a:prstGeom>
          <a:ln w="0">
            <a:noFill/>
          </a:ln>
        </p:spPr>
      </p:pic>
      <p:pic>
        <p:nvPicPr>
          <p:cNvPr id="227" name="" descr=""/>
          <p:cNvPicPr/>
          <p:nvPr/>
        </p:nvPicPr>
        <p:blipFill>
          <a:blip r:embed="rId2"/>
          <a:stretch/>
        </p:blipFill>
        <p:spPr>
          <a:xfrm>
            <a:off x="3048120" y="4419720"/>
            <a:ext cx="1904760" cy="1904760"/>
          </a:xfrm>
          <a:prstGeom prst="rect">
            <a:avLst/>
          </a:prstGeom>
          <a:ln w="0">
            <a:noFill/>
          </a:ln>
        </p:spPr>
      </p:pic>
      <p:pic>
        <p:nvPicPr>
          <p:cNvPr id="228" name="" descr=""/>
          <p:cNvPicPr/>
          <p:nvPr/>
        </p:nvPicPr>
        <p:blipFill>
          <a:blip r:embed="rId3"/>
          <a:stretch/>
        </p:blipFill>
        <p:spPr>
          <a:xfrm>
            <a:off x="5257800" y="3886200"/>
            <a:ext cx="1828800" cy="2057400"/>
          </a:xfrm>
          <a:prstGeom prst="rect">
            <a:avLst/>
          </a:prstGeom>
          <a:ln w="0">
            <a:noFill/>
          </a:ln>
        </p:spPr>
      </p:pic>
      <p:pic>
        <p:nvPicPr>
          <p:cNvPr id="229" name="" descr=""/>
          <p:cNvPicPr/>
          <p:nvPr/>
        </p:nvPicPr>
        <p:blipFill>
          <a:blip r:embed="rId4"/>
          <a:stretch/>
        </p:blipFill>
        <p:spPr>
          <a:xfrm>
            <a:off x="3581280" y="3429000"/>
            <a:ext cx="819360" cy="942840"/>
          </a:xfrm>
          <a:prstGeom prst="rect">
            <a:avLst/>
          </a:prstGeom>
          <a:ln w="0">
            <a:noFill/>
          </a:ln>
        </p:spPr>
      </p:pic>
      <p:pic>
        <p:nvPicPr>
          <p:cNvPr id="230" name="" descr=""/>
          <p:cNvPicPr/>
          <p:nvPr/>
        </p:nvPicPr>
        <p:blipFill>
          <a:blip r:embed="rId5"/>
          <a:stretch/>
        </p:blipFill>
        <p:spPr>
          <a:xfrm>
            <a:off x="2743200" y="861840"/>
            <a:ext cx="2514600" cy="1805040"/>
          </a:xfrm>
          <a:prstGeom prst="rect">
            <a:avLst/>
          </a:prstGeom>
          <a:ln w="0">
            <a:noFill/>
          </a:ln>
        </p:spPr>
      </p:pic>
      <p:pic>
        <p:nvPicPr>
          <p:cNvPr id="231" name="" descr=""/>
          <p:cNvPicPr/>
          <p:nvPr/>
        </p:nvPicPr>
        <p:blipFill>
          <a:blip r:embed="rId6"/>
          <a:stretch/>
        </p:blipFill>
        <p:spPr>
          <a:xfrm rot="1286400">
            <a:off x="4952520" y="457200"/>
            <a:ext cx="466920" cy="571680"/>
          </a:xfrm>
          <a:prstGeom prst="rect">
            <a:avLst/>
          </a:prstGeom>
          <a:ln w="0">
            <a:noFill/>
          </a:ln>
        </p:spPr>
      </p:pic>
      <p:pic>
        <p:nvPicPr>
          <p:cNvPr id="232" name="" descr=""/>
          <p:cNvPicPr/>
          <p:nvPr/>
        </p:nvPicPr>
        <p:blipFill>
          <a:blip r:embed="rId7"/>
          <a:stretch/>
        </p:blipFill>
        <p:spPr>
          <a:xfrm rot="1286400">
            <a:off x="4800600" y="952200"/>
            <a:ext cx="466560" cy="571320"/>
          </a:xfrm>
          <a:prstGeom prst="rect">
            <a:avLst/>
          </a:prstGeom>
          <a:ln w="0">
            <a:noFill/>
          </a:ln>
        </p:spPr>
      </p:pic>
      <p:pic>
        <p:nvPicPr>
          <p:cNvPr id="233" name="" descr=""/>
          <p:cNvPicPr/>
          <p:nvPr/>
        </p:nvPicPr>
        <p:blipFill>
          <a:blip r:embed="rId8"/>
          <a:stretch/>
        </p:blipFill>
        <p:spPr>
          <a:xfrm rot="1286400">
            <a:off x="4571640" y="609120"/>
            <a:ext cx="466560" cy="5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43792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d47d"/>
                </a:solidFill>
                <a:latin typeface="Arial"/>
              </a:rPr>
              <a:t>Did Rise to The Top?</a:t>
            </a:r>
            <a:endParaRPr b="0" lang="en-US" sz="6000" spc="-1" strike="noStrike">
              <a:solidFill>
                <a:srgbClr val="f7d47d"/>
              </a:solidFill>
              <a:latin typeface="Arial"/>
            </a:endParaRPr>
          </a:p>
        </p:txBody>
      </p:sp>
      <p:pic>
        <p:nvPicPr>
          <p:cNvPr id="235" name="" descr=""/>
          <p:cNvPicPr/>
          <p:nvPr/>
        </p:nvPicPr>
        <p:blipFill>
          <a:blip r:embed="rId1"/>
          <a:stretch/>
        </p:blipFill>
        <p:spPr>
          <a:xfrm>
            <a:off x="5486400" y="304920"/>
            <a:ext cx="1338120" cy="2355840"/>
          </a:xfrm>
          <a:prstGeom prst="rect">
            <a:avLst/>
          </a:prstGeom>
          <a:ln w="0">
            <a:noFill/>
          </a:ln>
        </p:spPr>
      </p:pic>
      <p:pic>
        <p:nvPicPr>
          <p:cNvPr id="236" name="" descr=""/>
          <p:cNvPicPr/>
          <p:nvPr/>
        </p:nvPicPr>
        <p:blipFill>
          <a:blip r:embed="rId2"/>
          <a:stretch/>
        </p:blipFill>
        <p:spPr>
          <a:xfrm>
            <a:off x="1089000" y="3505320"/>
            <a:ext cx="1730520" cy="2590560"/>
          </a:xfrm>
          <a:prstGeom prst="rect">
            <a:avLst/>
          </a:prstGeom>
          <a:ln w="0">
            <a:noFill/>
          </a:ln>
        </p:spPr>
      </p:pic>
      <p:pic>
        <p:nvPicPr>
          <p:cNvPr id="237" name="" descr=""/>
          <p:cNvPicPr/>
          <p:nvPr/>
        </p:nvPicPr>
        <p:blipFill>
          <a:blip r:embed="rId3"/>
          <a:stretch/>
        </p:blipFill>
        <p:spPr>
          <a:xfrm>
            <a:off x="4572000" y="3809880"/>
            <a:ext cx="2590920" cy="1725840"/>
          </a:xfrm>
          <a:prstGeom prst="rect">
            <a:avLst/>
          </a:prstGeom>
          <a:ln w="0">
            <a:noFill/>
          </a:ln>
        </p:spPr>
      </p:pic>
      <p:pic>
        <p:nvPicPr>
          <p:cNvPr id="238" name="" descr=""/>
          <p:cNvPicPr/>
          <p:nvPr/>
        </p:nvPicPr>
        <p:blipFill>
          <a:blip r:embed="rId4"/>
          <a:stretch/>
        </p:blipFill>
        <p:spPr>
          <a:xfrm>
            <a:off x="1143000" y="380880"/>
            <a:ext cx="1587600" cy="21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8880" y="251424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Or were you  Stumped?</a:t>
            </a:r>
            <a:endParaRPr b="0" lang="en-US" sz="5400" spc="-1" strike="noStrike">
              <a:solidFill>
                <a:srgbClr val="f7d47d"/>
              </a:solidFill>
              <a:latin typeface="Arial"/>
            </a:endParaRPr>
          </a:p>
        </p:txBody>
      </p:sp>
      <p:pic>
        <p:nvPicPr>
          <p:cNvPr id="240" name="" descr=""/>
          <p:cNvPicPr/>
          <p:nvPr/>
        </p:nvPicPr>
        <p:blipFill>
          <a:blip r:embed="rId1"/>
          <a:stretch/>
        </p:blipFill>
        <p:spPr>
          <a:xfrm>
            <a:off x="2743200" y="3681360"/>
            <a:ext cx="2514600" cy="1805040"/>
          </a:xfrm>
          <a:prstGeom prst="rect">
            <a:avLst/>
          </a:prstGeom>
          <a:ln w="0">
            <a:noFill/>
          </a:ln>
        </p:spPr>
      </p:pic>
      <p:pic>
        <p:nvPicPr>
          <p:cNvPr id="241" name="" descr=""/>
          <p:cNvPicPr/>
          <p:nvPr/>
        </p:nvPicPr>
        <p:blipFill>
          <a:blip r:embed="rId2"/>
          <a:stretch/>
        </p:blipFill>
        <p:spPr>
          <a:xfrm>
            <a:off x="5715000" y="3733920"/>
            <a:ext cx="1447920" cy="1447560"/>
          </a:xfrm>
          <a:prstGeom prst="rect">
            <a:avLst/>
          </a:prstGeom>
          <a:ln w="0">
            <a:noFill/>
          </a:ln>
        </p:spPr>
      </p:pic>
      <p:pic>
        <p:nvPicPr>
          <p:cNvPr id="242" name="" descr=""/>
          <p:cNvPicPr/>
          <p:nvPr/>
        </p:nvPicPr>
        <p:blipFill>
          <a:blip r:embed="rId3"/>
          <a:stretch/>
        </p:blipFill>
        <p:spPr>
          <a:xfrm>
            <a:off x="658800" y="3733920"/>
            <a:ext cx="1779480" cy="1747800"/>
          </a:xfrm>
          <a:prstGeom prst="rect">
            <a:avLst/>
          </a:prstGeom>
          <a:ln w="0">
            <a:noFill/>
          </a:ln>
        </p:spPr>
      </p:pic>
      <p:pic>
        <p:nvPicPr>
          <p:cNvPr id="243" name="" descr=""/>
          <p:cNvPicPr/>
          <p:nvPr/>
        </p:nvPicPr>
        <p:blipFill>
          <a:blip r:embed="rId4"/>
          <a:stretch/>
        </p:blipFill>
        <p:spPr>
          <a:xfrm>
            <a:off x="3344760" y="457200"/>
            <a:ext cx="107496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43792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a:rPr>
              <a:t>No Matter What You May Have Some New Books for Your List!!!</a:t>
            </a:r>
            <a:br>
              <a:rPr sz="4400"/>
            </a:br>
            <a:r>
              <a:rPr b="0" lang="en-US" sz="4400" spc="-1" strike="noStrike">
                <a:solidFill>
                  <a:srgbClr val="f7d47d"/>
                </a:solidFill>
                <a:latin typeface="Arial"/>
              </a:rPr>
              <a:t>THANKS!!!!!!!!!!</a:t>
            </a:r>
            <a:endParaRPr b="0" lang="en-US" sz="4400" spc="-1" strike="noStrike">
              <a:solidFill>
                <a:srgbClr val="f7d47d"/>
              </a:solidFill>
              <a:latin typeface="Arial"/>
            </a:endParaRPr>
          </a:p>
        </p:txBody>
      </p:sp>
      <p:pic>
        <p:nvPicPr>
          <p:cNvPr id="245" name="" descr=""/>
          <p:cNvPicPr/>
          <p:nvPr/>
        </p:nvPicPr>
        <p:blipFill>
          <a:blip r:embed="rId1"/>
          <a:stretch/>
        </p:blipFill>
        <p:spPr>
          <a:xfrm>
            <a:off x="2209680" y="4419720"/>
            <a:ext cx="3891240" cy="1538280"/>
          </a:xfrm>
          <a:prstGeom prst="rect">
            <a:avLst/>
          </a:prstGeom>
          <a:ln w="0">
            <a:noFill/>
          </a:ln>
        </p:spPr>
      </p:pic>
      <p:pic>
        <p:nvPicPr>
          <p:cNvPr id="246" name="" descr=""/>
          <p:cNvPicPr/>
          <p:nvPr/>
        </p:nvPicPr>
        <p:blipFill>
          <a:blip r:embed="rId2"/>
          <a:stretch/>
        </p:blipFill>
        <p:spPr>
          <a:xfrm>
            <a:off x="5715000" y="3048120"/>
            <a:ext cx="1876320" cy="1600200"/>
          </a:xfrm>
          <a:prstGeom prst="rect">
            <a:avLst/>
          </a:prstGeom>
          <a:ln w="0">
            <a:noFill/>
          </a:ln>
        </p:spPr>
      </p:pic>
      <p:pic>
        <p:nvPicPr>
          <p:cNvPr id="247" name="" descr=""/>
          <p:cNvPicPr/>
          <p:nvPr/>
        </p:nvPicPr>
        <p:blipFill>
          <a:blip r:embed="rId3"/>
          <a:stretch/>
        </p:blipFill>
        <p:spPr>
          <a:xfrm>
            <a:off x="2514600" y="152280"/>
            <a:ext cx="2743200" cy="1468440"/>
          </a:xfrm>
          <a:prstGeom prst="rect">
            <a:avLst/>
          </a:prstGeom>
          <a:ln w="0">
            <a:noFill/>
          </a:ln>
        </p:spPr>
      </p:pic>
      <p:pic>
        <p:nvPicPr>
          <p:cNvPr id="248" name="" descr=""/>
          <p:cNvPicPr/>
          <p:nvPr/>
        </p:nvPicPr>
        <p:blipFill>
          <a:blip r:embed="rId4"/>
          <a:stretch/>
        </p:blipFill>
        <p:spPr>
          <a:xfrm>
            <a:off x="685800" y="4495680"/>
            <a:ext cx="1471680" cy="1905120"/>
          </a:xfrm>
          <a:prstGeom prst="rect">
            <a:avLst/>
          </a:prstGeom>
          <a:ln w="0">
            <a:noFill/>
          </a:ln>
        </p:spPr>
      </p:pic>
      <p:pic>
        <p:nvPicPr>
          <p:cNvPr id="249" name="" descr=""/>
          <p:cNvPicPr/>
          <p:nvPr/>
        </p:nvPicPr>
        <p:blipFill>
          <a:blip r:embed="rId5"/>
          <a:stretch/>
        </p:blipFill>
        <p:spPr>
          <a:xfrm>
            <a:off x="380880" y="189000"/>
            <a:ext cx="1828800" cy="1508040"/>
          </a:xfrm>
          <a:prstGeom prst="rect">
            <a:avLst/>
          </a:prstGeom>
          <a:ln w="0">
            <a:noFill/>
          </a:ln>
        </p:spPr>
      </p:pic>
      <p:pic>
        <p:nvPicPr>
          <p:cNvPr id="250" name="" descr=""/>
          <p:cNvPicPr/>
          <p:nvPr/>
        </p:nvPicPr>
        <p:blipFill>
          <a:blip r:embed="rId6"/>
          <a:stretch/>
        </p:blipFill>
        <p:spPr>
          <a:xfrm>
            <a:off x="5334120" y="-152280"/>
            <a:ext cx="22860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23:03:52Z</dcterms:created>
  <dc:creator>ray</dc:creator>
  <dc:description/>
  <dc:language>en-US</dc:language>
  <cp:lastModifiedBy>ray</cp:lastModifiedBy>
  <dcterms:modified xsi:type="dcterms:W3CDTF">2010-01-24T23:41:34Z</dcterms:modified>
  <cp:revision>5</cp:revision>
  <dc:subject/>
  <dc:title>Modern Fantasy Game</dc:title>
</cp:coreProperties>
</file>