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CD9-1BD0-455D-9873-0E1C8932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11F-9F19-4813-98FF-920C8CEB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08C-487A-45A6-9AED-0F46A30F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759-E076-4892-8AA6-E638C40F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206C-9834-4B05-B241-EB9E7CEF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9C73-CB1B-45FB-BEB4-135801C0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F44B-7A97-4469-BF5C-002676F7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97A7-0FA3-4931-90FC-29758A30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F944-EB3A-4E3C-AC18-48E0EE3D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1E0F-BFDA-4297-BE76-3155DBA2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2E90-8BFB-43AB-9711-69DCA91C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7A6-77ED-47A3-BA94-0B4B5523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E50F-4908-42D2-B4FA-334ADCCF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6259-7968-402E-9CED-686E6978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B737-BE11-40EC-BE17-4E1CB96E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F937-2780-4F5E-9787-078678EE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367F-D196-4463-99FA-7552A328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B51-8C23-43BF-9598-3222E615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9C9-EA0A-4188-81F7-363A9302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43D-7E58-464B-B2C0-EC9EB84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2A5-A8D9-4ABD-9A21-E89BF739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FA1-DC37-43AB-920E-6B03AFCE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0B0-A323-4990-BE9B-CD407381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2D4-6E88-4A9B-AEC9-1D9CD181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DC0A-B326-4CC2-A545-DE2763CC8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7B05-0E08-4E7C-A39B-6DA6A1DCF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ical Fiction 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ru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is from an important event or time in 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c F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77920"/>
            <a:ext cx="815328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anks so much for watching my power point!!!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 Historical Fiction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657600" y="2674800"/>
            <a:ext cx="182736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3T03:50:08Z</dcterms:modified>
  <cp:revision>11</cp:revision>
  <dc:subject/>
  <dc:title>HISTORICAL FICTION</dc:title>
</cp:coreProperties>
</file>