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566-3BF1-4C33-8078-8D670EE2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C09-EAA3-42A1-9D86-A16CB187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4DB-8879-49DB-BF21-8C618F0E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968-89A3-428B-B118-9B03FA4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F56C-1E74-44AA-9B54-A3DC82B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F0F-1DC7-4F04-B887-402BBB7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9B8F-55E8-4744-9F8C-88EB97E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A24-4ED7-4FD1-BCD2-6BBD996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7BAA-AFFD-4643-BA80-1E13EC9A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ED9-2AAE-4930-9F99-92324B0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52D-189E-46DF-99E6-D38ACC4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58F-8360-4D49-A0B6-5FD73352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1A1-99A9-4775-83CC-BA0B353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868C-4499-4203-BC67-F8FB75E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C4B-7B57-4BB8-9809-966B0D1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DDFA-A242-478F-AEA3-6347CC00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AB75-BDAF-4A55-BC03-9EC3045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ACE-4887-4C74-9B72-E1ECB7D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055-C869-43F7-A130-6CA8E64B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A53-7728-4165-B37C-0AAAB18E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1EB-90BF-4009-B12D-0B388268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858-2CEC-402B-A683-9DF1EA9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582-31E0-420B-87BD-0101966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1BD-91BE-4A36-88FB-1323BDE6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8B4-BC5A-421F-BE2A-EE2A38E41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31F-9974-43FB-A339-8404C4793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ical Fictio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ru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is from an important event or time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so much for watching my power point!!!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 Historical Fiction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657600" y="26748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3T03:50:08Z</dcterms:modified>
  <cp:revision>11</cp:revision>
  <dc:subject/>
  <dc:title>HISTORICAL FICTION</dc:title>
</cp:coreProperties>
</file>