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58A-8F54-40F1-8E4E-07D9C568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E55-DC8F-4477-8AA5-43C8FCB5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0FD-AFBC-4FA5-AD07-42ED5A47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934-E807-411E-9011-5D129DEC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650A-31BC-40E0-A120-4AD559A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5EC6-ACB6-432D-877F-23F3C8CA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61A-32CA-44A0-884C-CFD00DA0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A5D4-56DD-445B-8F19-E509ECD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C5F8-8762-4917-BD15-BBCB759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3CDC-0E27-4AA7-887F-C0C162AB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3A30-558C-4482-84B4-5E049DD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993-BF94-4F8F-9792-8801C58B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D7FB-CA2A-44D8-B1C6-C021257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D39A-75DB-4C85-BED0-6E5E125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7D8B-5973-4EB4-BC73-6916605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260-1F8A-4B13-8CF8-D2D3704E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6B06-D5B2-4FC3-9A25-583BC929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0FF-E06C-4F3C-932E-393A22A7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007-0AA4-4803-BF4F-497E516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958-FC20-4DB8-8E9D-919F31D0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654-D1EE-40A3-A6D8-1BF17BB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E5C-A7D7-4BEC-8567-BB0C86B8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688-8800-42AE-B894-C7D56735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A18-6EA9-4D76-AAE8-3BE32440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70B7-4414-433C-9F00-51FD9D531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F46-A5BA-4C29-A3EC-B74EC3AD3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ical Fiction 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ru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is from an important event or time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F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15328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s so much for watching my power point!!!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 Historical Fiction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657600" y="2674800"/>
            <a:ext cx="1827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3T03:50:08Z</dcterms:modified>
  <cp:revision>11</cp:revision>
  <dc:subject/>
  <dc:title>HISTORICAL FICTION</dc:title>
</cp:coreProperties>
</file>