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B73-912E-41F5-A4EA-97CE79B1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D70-247A-4329-A829-6D2D6CBA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EB7-3907-4FA7-90AA-BFE45242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4BF-7DB6-4151-B383-819C3733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4B0C-FBB9-47AB-91C7-8434C407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EB21-2CA3-4810-A7C5-27B396B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1863-38FF-4E59-9110-879C55A1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F737-5FFA-4D9F-A56E-123CEE9E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E9C0-EB31-40C0-AA37-933F9B34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9606-FC2E-4DC7-97CB-A762E8DF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5E97-2AFF-4B43-8D19-0EDD4AF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FCE-A2EF-4843-BA8C-76B73A4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CC12-2FFB-4577-B009-0383B43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E071-46B6-4E05-830E-0890C1E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385-41CA-4A4A-A7EB-3F9C7B71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E17A-D99E-45D4-8DBC-2CBB84A6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9CB-D8FE-47CA-BE21-536B6F24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BA8-0640-4CE2-86B5-212AB77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F91-062F-4925-BF32-D4FB8B7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D78-2AEC-4D17-B95C-A888209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875-C143-4F07-AEEC-76841AC8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704-866A-40D9-B05F-4EFF356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0FE-67EC-4706-9BD8-C2B46F5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A1F-8CBC-41A2-AC06-B632646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14C1-EDF9-4ACB-B670-8F1168D17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1846-502C-4C67-B047-FC8289D93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ical Fiction 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ru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is from an important event or time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F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15328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s so much for watching my power point!!!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 Historical Fiction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657600" y="2674800"/>
            <a:ext cx="1827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3T03:50:08Z</dcterms:modified>
  <cp:revision>11</cp:revision>
  <dc:subject/>
  <dc:title>HISTORICAL FICTION</dc:title>
</cp:coreProperties>
</file>