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DAD7-5F3D-4380-A287-65801226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E73A-F2A2-4D4E-826B-80577CD1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C2EE-4BA0-43FB-94CC-7CF7CEC0A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2654-793A-4903-B241-BB00AFC86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50D4-4D13-4366-B91E-0918D418A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6A07-8661-4D5B-B9B5-DF38541C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2736-236B-48EB-8290-0CD30AB6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A706-4FFD-4F69-855F-423E787B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B92E-B7DD-4DED-BEF5-A040F588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6B6C-2C02-462A-9262-69D79021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EEF5-C0CE-4F7D-BF89-C68124BE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6754-8F4C-43F7-94C6-6515722D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EFAE-9243-4481-B268-547D2C5C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B94D-6784-41DC-9780-8A27D9C9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4B55-E7EF-4BAB-8956-F1BEB5E9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DBD8-C729-4AC1-8332-803D2659A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CD2C-323A-4E49-A36C-B7AF76D01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54DE-2D6A-486E-9167-6110821B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BFF0-21A5-4CF5-9246-5A586C1F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1B40-DA3B-4BA2-B4B7-95FF0F8E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2DB6-923D-49B6-9602-5661AD07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E8D6-0487-4D6F-8B9F-3D5998F7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9164-47F7-441E-B7C0-06F26832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337A-2636-4A65-90B6-94F2C854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38CA-AE24-4E31-8134-E5C6CCFE13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C724-621D-4036-B5BA-F840C24FDA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ooks.google.com/books?id=ZLKvAAAACAAJ&amp;dq=sister+of+the+wolf&amp;cd=4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205740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istorical Fict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Orange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95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809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commended Rea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the St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Talk to Me About the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ster of the Wo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Sister of the Wolf book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59520" y="4191120"/>
            <a:ext cx="1524240" cy="2286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Don't talk to me about the war book image"/>
          <p:cNvPicPr/>
          <p:nvPr/>
        </p:nvPicPr>
        <p:blipFill>
          <a:blip r:embed="rId3"/>
          <a:stretch/>
        </p:blipFill>
        <p:spPr>
          <a:xfrm>
            <a:off x="765000" y="2895480"/>
            <a:ext cx="1757520" cy="25909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Number the stars book image"/>
          <p:cNvPicPr/>
          <p:nvPr/>
        </p:nvPicPr>
        <p:blipFill>
          <a:blip r:embed="rId4"/>
          <a:stretch/>
        </p:blipFill>
        <p:spPr>
          <a:xfrm>
            <a:off x="6324480" y="1525680"/>
            <a:ext cx="1371600" cy="198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00:55:01Z</dcterms:created>
  <dc:creator>Rick Adams</dc:creator>
  <dc:description/>
  <dc:language>en-US</dc:language>
  <cp:lastModifiedBy>Rick Adams</cp:lastModifiedBy>
  <dcterms:modified xsi:type="dcterms:W3CDTF">2010-01-21T21:55:41Z</dcterms:modified>
  <cp:revision>9</cp:revision>
  <dc:subject/>
  <dc:title>HISTORICAL FICTION</dc:title>
</cp:coreProperties>
</file>