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998-D097-40EB-95E6-130104B6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D3E-64F5-4ED8-B90C-66A65929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3B9-EE16-43DA-8128-F01BD99E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08C-4C50-4205-96A3-228BA6C0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D5BE-1549-4B43-981E-985646A6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BDA4-5F51-42FE-9BBD-2CC25EAF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1B91-6120-4EB4-A057-8969BFCC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94A6-982E-491C-BB53-12C3DCFE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8B75-327A-4D04-A8D4-1F48B370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363B-DB94-4C4E-AD54-FEF6C661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21FB-E3A3-4323-A8B0-B90011A9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684-0C3F-4D5A-9BA6-6C844581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7E1C-FC09-4CFB-9F3D-9599A235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778F-21B1-4BF0-8C15-F643D5BA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C925-30B4-4CDE-B0CA-0FDF8D15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F5D7-F785-4C40-BD20-0872B52D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01E3-DA9B-4535-82F8-F93C9B4C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C0C-AD02-4BF3-AECF-F1DD8F4E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87A-9434-4441-AE0D-89D9BE25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7CD-2EC1-48A8-A51A-F4FFCE0B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775-984A-4650-B3F5-50208F93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EA3-EF29-4666-B93E-3F0C18F7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68F-C88E-4138-BA66-1F331D28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EE1-CDC2-43F3-A255-C591E013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3499-D97D-4643-9629-2055D82F6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CFF3-5470-4A5B-9EA3-5AF9B9C3C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ooks.google.com/books?id=ZLKvAAAACAAJ&amp;dq=sister+of+the+wolf&amp;cd=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ical Fic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Orange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5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80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mmended Rea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the St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alk to Me About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r of the Wo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Sister of the Wolf book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9520" y="419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Don't talk to me about the war book image"/>
          <p:cNvPicPr/>
          <p:nvPr/>
        </p:nvPicPr>
        <p:blipFill>
          <a:blip r:embed="rId3"/>
          <a:stretch/>
        </p:blipFill>
        <p:spPr>
          <a:xfrm>
            <a:off x="765000" y="2895480"/>
            <a:ext cx="175752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Number the stars book image"/>
          <p:cNvPicPr/>
          <p:nvPr/>
        </p:nvPicPr>
        <p:blipFill>
          <a:blip r:embed="rId4"/>
          <a:stretch/>
        </p:blipFill>
        <p:spPr>
          <a:xfrm>
            <a:off x="6324480" y="1525680"/>
            <a:ext cx="137160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55:01Z</dcterms:created>
  <dc:creator>Rick Adams</dc:creator>
  <dc:description/>
  <dc:language>en-US</dc:language>
  <cp:lastModifiedBy>Rick Adams</cp:lastModifiedBy>
  <dcterms:modified xsi:type="dcterms:W3CDTF">2010-01-21T21:55:41Z</dcterms:modified>
  <cp:revision>9</cp:revision>
  <dc:subject/>
  <dc:title>HISTORICAL FICTION</dc:title>
</cp:coreProperties>
</file>