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AC3-AD3A-4CE0-B2F4-CB4A35C3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AB0-F196-4303-8EB4-F7CAB24C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3B6-86DE-4DFF-9CED-78344B22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589-F927-48FC-B4C1-21487A16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9D33-B4CE-4D0B-BBF8-A3D413AC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5835-A702-41B6-BC59-86A7F0A1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044B-3340-44CE-ADB6-0780CC6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81E0-F255-4205-A927-A60607F7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1121-B233-4C17-A844-AAD8C632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1952-D442-4113-A320-365BCC3C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40A7-0213-4B07-8D03-CEE284F9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1C1-AF18-4715-89DD-576D3BD9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B6D3-8723-4F62-B3D4-E133ADB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C00A-E53F-4077-840B-E14D1672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AD7B-00A5-497C-ABE1-D3F3FFD7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46BF-DD72-4531-B6A9-BDF67C0E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7D02-46FA-48D9-AE7D-D2DB5185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B78-7AF0-4EC6-8A74-121D0C8C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3B2-67C0-43A1-A542-3EABA339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61A-A179-4340-9D42-110BA60F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73F-9997-4D92-9A75-14406AA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C50-E1F6-4442-A894-7D7461B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123-31B0-41DD-8715-72C72228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B90-DF16-4E5E-A5F2-D0DDB25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4A91-2287-4DEA-B9E6-C3ABBB315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34D4-FC77-4C80-9FDD-ED8455FD0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1T21:55:41Z</dcterms:modified>
  <cp:revision>9</cp:revision>
  <dc:subject/>
  <dc:title>HISTORICAL FICTION</dc:title>
</cp:coreProperties>
</file>