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A34-F9C5-4882-8437-505382EE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541-52E4-4128-8E6B-30ADB6E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A1-B8E0-405E-A032-7B49817A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0B6-BC9C-4505-A13C-E48F1B6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B23-CD8F-4679-878A-6E2DCC83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9F18-4490-4100-9B57-A88AD72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6755-D26B-47F2-874D-0A86B31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D70-CB1F-460D-BA75-B4C5E68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AC81-ADA6-4DF7-84ED-6186943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66E7-DE3D-48CE-ADC5-1B87F15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DB0E-7E54-4BC3-96C1-BACA113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831-7466-4505-BBD2-E3BC4FD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ED83-11E2-4D76-A18B-DD36AD4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EB4-66E4-4009-9DA5-068DB52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6412-3699-41E5-88B2-BA04A77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49BA-0B5B-4A92-9F09-DF884B9A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B51-896E-4A74-9B30-815B8846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207-11F9-4AA9-B0AA-377475F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D1B-DC28-4745-8CA9-561E3C5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93F-C2D9-48A9-B166-EB32ED1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043-24DE-4F74-BAFD-B5705673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928-85A9-499D-8559-B011EE5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9CB-CE2F-47E7-8D7A-CCF5532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56A-C7E7-4EAE-B646-E384E1F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F3F-0728-4210-839E-97F600896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73F1-8108-4BE0-86B0-E54C6DF25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1T21:55:41Z</dcterms:modified>
  <cp:revision>9</cp:revision>
  <dc:subject/>
  <dc:title>HISTORICAL FICTION</dc:title>
</cp:coreProperties>
</file>