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C90-420F-42C5-B987-CEF79586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BE3F-6EF6-49D6-9E0B-8A12F77A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3B1-4CC3-42FF-B913-743B8037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6C2-FB05-413A-9618-014FC37C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BF0-0D7C-4F8A-8177-9898AE03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B87-D548-4F4A-9403-5A16866B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B2D-1DE5-4904-9F52-67248129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8BD4-A0E9-4A36-8A3C-1C5099D7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2D7-D499-4C29-9173-8142BE57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F68-748A-4866-B6B2-D8001043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2C8-02AC-4E63-9CE3-16328524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E31-C37C-4996-92EB-45277B2B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1A28-35C8-4B65-AC2B-00C99EB74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mporary Realistic F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ide to Gen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happen in rea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gic or wizar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hings are real and have a little twist o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s To Read in this Gen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aul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e B. Co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Gut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rdan Ko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 Ri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1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15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53:46Z</dcterms:created>
  <dc:creator>MTL Admin</dc:creator>
  <dc:description/>
  <dc:language>en-US</dc:language>
  <cp:lastModifiedBy>MTL Admin</cp:lastModifiedBy>
  <dcterms:modified xsi:type="dcterms:W3CDTF">2009-12-10T15:09:47Z</dcterms:modified>
  <cp:revision>1</cp:revision>
  <dc:subject/>
  <dc:title>Contemporary Realistic Fiction</dc:title>
</cp:coreProperties>
</file>