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EC47-5797-4CD9-B0B5-F1E0199F1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1FC7-C03E-429B-A38E-2263BAFC2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EAF8-2250-4D1F-80DF-FA54D5015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EF1E-F897-4F34-9F6E-6929545AD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8AC4-49E4-4C33-9C61-D53B996F7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7414-A1F2-4DB6-AE06-F76D74536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45F7-DA00-4778-916E-9E713A749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C6F9-1EC3-4E0E-BAC7-F0F5B2649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F9FE-7FDD-4A64-AA65-994CCAA03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00B4-9821-43F8-88CE-EABFD05AD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B3EE-E4E3-4FD1-8537-5ABC5E543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0444-1A70-4F8E-B307-AFABD5AF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f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E583B-865D-46E9-80E6-B8EA2EE664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f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mporary Realistic Fi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uide to Gen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f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cter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ld happen in real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magic or wizard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things are real and have a little twist on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8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8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500"/>
                            </p:stCondLst>
                            <p:childTnLst>
                              <p:par>
                                <p:cTn id="4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8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f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hors To Read in this Gen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ry Paul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oline B. Coo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n Gut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rdan Kor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k Riord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100"/>
                            </p:stCondLst>
                            <p:childTnLst>
                              <p:par>
                                <p:cTn id="7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500"/>
                            </p:stCondLst>
                            <p:childTnLst>
                              <p:par>
                                <p:cTn id="8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150"/>
                            </p:stCondLst>
                            <p:childTnLst>
                              <p:par>
                                <p:cTn id="9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0T14:53:46Z</dcterms:created>
  <dc:creator>MTL Admin</dc:creator>
  <dc:description/>
  <dc:language>en-US</dc:language>
  <cp:lastModifiedBy>MTL Admin</cp:lastModifiedBy>
  <dcterms:modified xsi:type="dcterms:W3CDTF">2009-12-10T15:09:47Z</dcterms:modified>
  <cp:revision>1</cp:revision>
  <dc:subject/>
  <dc:title>Contemporary Realistic Fiction</dc:title>
</cp:coreProperties>
</file>