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50A-05C2-4563-B7CF-BF9BA729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A46-22C7-4CCA-AB1A-97657C06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096-7950-4C2A-B39D-862B1A21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11A-2C11-45A2-9F62-BE777FA7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4E0-C081-4834-B1C7-E36AD16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7A8-AD25-41D4-92AF-3B27FEDF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AA7-B224-443D-99A5-387EDA19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E9B-3FCA-49E1-9758-0E86A6A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7E7-A45A-4DEA-AC7F-74A6B888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AEB-795A-471E-B354-B90D310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A84-F064-4AEF-937A-474EAAD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9C8-519A-41AE-A729-743547DF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821-A894-4D21-9859-E093D2C4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mporary 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 to 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ppen in re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 or wizar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are real and have a little twist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f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To Read in this Gen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e B. Co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Gu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an Ko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5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3:46Z</dcterms:created>
  <dc:creator>MTL Admin</dc:creator>
  <dc:description/>
  <dc:language>en-US</dc:language>
  <cp:lastModifiedBy>MTL Admin</cp:lastModifiedBy>
  <dcterms:modified xsi:type="dcterms:W3CDTF">2009-12-10T15:09:47Z</dcterms:modified>
  <cp:revision>1</cp:revision>
  <dc:subject/>
  <dc:title>Contemporary Realistic Fiction</dc:title>
</cp:coreProperties>
</file>