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1AD-A0BA-4091-B5EE-B284A0B3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9A9E-53A3-4351-B4B6-5CD8FD95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150-FA47-4B2A-B79C-3B939899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0DAB-92B2-4E7A-AF19-60A174C6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553B-5824-4BC1-9030-3AF717E0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00D-CAA8-4300-B130-E7B73D15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6FB-0264-4BCD-9E97-288F9167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999-D6CB-4374-9176-26287434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81FB-FD3F-4A89-B207-8386DD81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9EC-A666-437D-B660-B56633A7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06B-D948-425D-A8CF-79E2E8E3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45B3-1835-476D-91F6-4258BF5D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4BA2-F977-4399-90DD-8CC64EA72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mporary Realistic F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uide to Gen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happen in rea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gic or wizar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hings are real and have a little twist o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s To Read in this Gen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Paul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e B. Co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Gut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rdan Ko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k Ri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1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15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53:46Z</dcterms:created>
  <dc:creator>MTL Admin</dc:creator>
  <dc:description/>
  <dc:language>en-US</dc:language>
  <cp:lastModifiedBy>MTL Admin</cp:lastModifiedBy>
  <dcterms:modified xsi:type="dcterms:W3CDTF">2009-12-10T15:09:47Z</dcterms:modified>
  <cp:revision>1</cp:revision>
  <dc:subject/>
  <dc:title>Contemporary Realistic Fiction</dc:title>
</cp:coreProperties>
</file>