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7043-07CB-448F-91ED-9D835E88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826D-D06A-4D0C-83C9-12AE3E9D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810C-35AB-4EF5-B654-57E43EEE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BE41-D888-49C0-BE8C-F80962DF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660-82DF-4977-95EE-91FA638E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322C-A3F0-40E6-BFBF-E7BE6316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42BC-58D6-4D00-ACD9-B71D0E7E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7FB8-FF2A-4A1C-BB68-3A6BD7AD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3C59-418F-48F1-AE97-0B1AB5BB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126B-440B-4E1F-9B31-AC785A45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AA71-80EA-4084-83F1-2F9AFBDF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77EF-7707-44C0-8DAA-BEFE5E41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79AC-7D6E-4F00-90FB-507AFCC68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mporary Realistic F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uide to Gen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happen in real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agic or wizar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things are real and have a little twist o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ors To Read in this Gen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y Paul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oline B. Co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 Gut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rdan Ko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k Rior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1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500"/>
                            </p:stCondLst>
                            <p:childTnLst>
                              <p:par>
                                <p:cTn id="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150"/>
                            </p:stCondLst>
                            <p:childTnLst>
                              <p:par>
                                <p:cTn id="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4:53:46Z</dcterms:created>
  <dc:creator>MTL Admin</dc:creator>
  <dc:description/>
  <dc:language>en-US</dc:language>
  <cp:lastModifiedBy>MTL Admin</cp:lastModifiedBy>
  <dcterms:modified xsi:type="dcterms:W3CDTF">2009-12-10T15:09:47Z</dcterms:modified>
  <cp:revision>1</cp:revision>
  <dc:subject/>
  <dc:title>Contemporary Realistic Fiction</dc:title>
</cp:coreProperties>
</file>