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81B4-F0BD-43F3-937C-875B4066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0F7F-61DE-4AA6-8E95-C4DC140A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E291-CB0B-49D7-B79B-3279D50D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2554-20AE-413C-B0EF-52593771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A8DB-5C19-4F9B-A36D-3BB65AA1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5FD9-02F7-4F31-B4F0-3A9CDCF7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C8B4-3F46-42EE-9113-727A83E7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2EA7-4614-4758-A01A-9C9DF88D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3769-2A98-4808-8EE0-E616CF83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7291-490B-4A0E-8561-48967D3F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BFF2-380C-4DEA-BBCD-6E315DB6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E173-FF7C-4FFD-B61A-B461B00E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C7D3-A292-415E-874C-6320EA8AA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mporary Realistic F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uide to Gen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happen in real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agic or wizar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things are real and have a little twist o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ors To Read in this Gen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y Paul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oline B. Co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 Gut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rdan Ko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k Rior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1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500"/>
                            </p:stCondLst>
                            <p:childTnLst>
                              <p:par>
                                <p:cTn id="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150"/>
                            </p:stCondLst>
                            <p:childTnLst>
                              <p:par>
                                <p:cTn id="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4:53:46Z</dcterms:created>
  <dc:creator>MTL Admin</dc:creator>
  <dc:description/>
  <dc:language>en-US</dc:language>
  <cp:lastModifiedBy>MTL Admin</cp:lastModifiedBy>
  <dcterms:modified xsi:type="dcterms:W3CDTF">2009-12-10T15:09:47Z</dcterms:modified>
  <cp:revision>1</cp:revision>
  <dc:subject/>
  <dc:title>Contemporary Realistic Fiction</dc:title>
</cp:coreProperties>
</file>