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3A3-723B-483F-AB25-3D2DC75C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E86-347C-49E0-A999-30E3983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005-D9DE-4B4C-A771-3B92719A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1D4-ED6D-4BA6-8F11-BC4A75C4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C22-02D0-4F40-A081-9837B56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08A-FB6A-46AA-9489-AC338D1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5A2-3B1A-496C-9E93-E2ABFCF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076-359B-475C-925D-F4C58995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80-2649-4557-B43E-EFB041A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0CD-8303-48D9-B833-AD32FD1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111-DB6A-440A-A687-7DA4781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B22-ADAC-4BD6-8011-C556213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DFE-99E1-4FB6-99A0-7F1AE5872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 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ay</cp:lastModifiedBy>
  <dcterms:modified xsi:type="dcterms:W3CDTF">2010-01-20T23:29:16Z</dcterms:modified>
  <cp:revision>209</cp:revision>
  <dc:subject/>
  <dc:title>Book Hook</dc:title>
</cp:coreProperties>
</file>