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4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1EF6-0185-4712-ADB5-92A31DE41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B455-1F21-413D-ADAB-2C05349E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A769-FE63-427A-802C-DE660E8AB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27BF-AC2F-449A-BAE5-762122C53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DC7B-EEFA-40B1-A602-66B71B8B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082E-3B90-4ABF-8EC5-9E900100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EE93-CB75-423B-9DF9-1735C472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3CB9-2108-47AF-8F0A-E3126A7C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CA45-0A73-416E-98FA-4622805F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0C12-2D1D-4EEF-9A2C-88C0F395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6F5A-D951-4E6C-82C7-64E6A123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C39D-AA23-4192-B106-08997619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5B0E-421D-4C2B-ACF7-DF7BFFEBD3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lagaesia.com/eragon.htm" TargetMode="External"/><Relationship Id="rId3" Type="http://schemas.openxmlformats.org/officeDocument/2006/relationships/image" Target="../media/image6.jpeg"/><Relationship Id="rId4" Type="http://schemas.openxmlformats.org/officeDocument/2006/relationships/hyperlink" Target="http://www.alagaesia.com/eldest.htm" TargetMode="External"/><Relationship Id="rId5" Type="http://schemas.openxmlformats.org/officeDocument/2006/relationships/image" Target="../media/image7.jpeg"/><Relationship Id="rId6" Type="http://schemas.openxmlformats.org/officeDocument/2006/relationships/hyperlink" Target="http://www.alagaesia.com/brisingr.htm" TargetMode="External"/><Relationship Id="rId7" Type="http://schemas.openxmlformats.org/officeDocument/2006/relationships/image" Target="../media/image8.jpeg"/><Relationship Id="rId8" Type="http://schemas.openxmlformats.org/officeDocument/2006/relationships/hyperlink" Target="http://images.google.com/imgres?imgurl=http://img410.imageshack.us/img410/6879/eldunariws7.jpg&amp;imgrefurl=http://www.ataricommunity.com/forums/showthread.php?t=668780&amp;usg=__2Uc2vREYWANVV2TZQ8xL6Jz6sDE=&amp;h=418&amp;w=300&amp;sz=48&amp;hl=en&amp;start=4&amp;um=1&amp;tbnid=OlEVcdENsw9MIM:&amp;tbnh=125&amp;tbnw=90&amp;prev=/images?q=eragon+series&amp;hl=en&amp;rls=com.microsoft:en-us:IE-SearchBox&amp;rlz=1I7GPEA_enUS287&amp;sa=N&amp;um=1" TargetMode="External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hyperlink" Target="http://images.google.com/imgres?imgurl=http://www.rickriordan.com/SeaofMonsters_painting%20(2).jpg&amp;imgrefurl=http://5-squared.blogspot.com/2009/04/sea-of-monsters-by-rick-riordan.html&amp;usg=__5K5D4dKEnZer-AtCCNQ6j40dlCU=&amp;h=825&amp;w=552&amp;sz=73&amp;hl=en&amp;start=3&amp;um=1&amp;tbnid=ya-QVvcL2Vp2qM:&amp;tbnh=144&amp;tbnw=96&amp;prev=/images?q=the+lightning+thief+series&amp;hl=en&amp;rls=com.microsoft:en-us:IE-SearchBox&amp;rlz=1I7GPEA_enUS287&amp;sa=X&amp;um=1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images.google.com/imgres?imgurl=http://jennifermorrill.files.wordpress.com/2009/06/titans-curse.jpg&amp;imgrefurl=http://zenleaf.blogspot.com/2009/09/percy-jackson-books-3-4-by-rick-riordan.html&amp;usg=__U-eyL_a2TGPCUfPbUD8Fzlcmuv4=&amp;h=500&amp;w=345&amp;sz=75&amp;hl=en&amp;start=4&amp;um=1&amp;tbnid=qL4rFaW8NrsRrM:&amp;tbnh=130&amp;tbnw=90&amp;prev=/images?q=the+lightning+thief+series&amp;hl=en&amp;rls=com.microsoft:en-us:IE-SearchBox&amp;rlz=1I7GPEA_enUS287&amp;sa=X&amp;um=1" TargetMode="External"/><Relationship Id="rId6" Type="http://schemas.openxmlformats.org/officeDocument/2006/relationships/image" Target="../media/image15.jpeg"/><Relationship Id="rId7" Type="http://schemas.openxmlformats.org/officeDocument/2006/relationships/hyperlink" Target="http://images.google.com/imgres?imgurl=http://ecx.images-amazon.com/images/I/51GEte8dnxL._SL500_.jpg&amp;imgrefurl=http://bookaddictdiary.blogspot.com/2008_11_01_archive.html&amp;usg=__EkOtA_Vowdndi1rGRaC_rq38v7M=&amp;h=500&amp;w=331&amp;sz=38&amp;hl=en&amp;start=10&amp;um=1&amp;tbnid=ngwBifUpAUpq5M:&amp;tbnh=130&amp;tbnw=86&amp;prev=/images?q=the+lightning+thief+series&amp;hl=en&amp;rls=com.microsoft:en-us:IE-SearchBox&amp;rlz=1I7GPEA_enUS287&amp;sa=X&amp;um=1" TargetMode="External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rj\Pictures\Microsoft Clip Organizer\j044158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3cddd"/>
                </a:solidFill>
                <a:latin typeface="Broadway"/>
              </a:rPr>
              <a:t>Books To Rea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fbfbf"/>
                </a:solidFill>
                <a:latin typeface="Broadway"/>
              </a:rPr>
              <a:t>Modern Fantas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rj\Pictures\Microsoft Clip Organizer\j044158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3cddd"/>
                </a:solidFill>
                <a:uFillTx/>
                <a:latin typeface="Broadway"/>
              </a:rPr>
              <a:t>Inkheart</a:t>
            </a:r>
            <a:r>
              <a:rPr b="0" lang="en-US" sz="4400" spc="-1" strike="noStrike">
                <a:solidFill>
                  <a:srgbClr val="93cddd"/>
                </a:solidFill>
                <a:latin typeface="Broadway"/>
              </a:rPr>
              <a:t> Tri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457200" y="914400"/>
            <a:ext cx="76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838080" y="1676520"/>
            <a:ext cx="7848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1523880" y="1600200"/>
            <a:ext cx="6172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Broadway"/>
              </a:rPr>
              <a:t>Twelve-year-old Meggie learns that her father, who repairs and binds books for a living, can "read" fictional characters to life when one of those characters abducts them and tries to force him into service</a:t>
            </a:r>
            <a:r>
              <a:rPr b="0" lang="en-US" sz="1800" spc="-1" strike="noStrike">
                <a:solidFill>
                  <a:srgbClr val="bfbfb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9" descr="inkheart.jpg"/>
          <p:cNvPicPr/>
          <p:nvPr/>
        </p:nvPicPr>
        <p:blipFill>
          <a:blip r:embed="rId2"/>
          <a:stretch/>
        </p:blipFill>
        <p:spPr>
          <a:xfrm>
            <a:off x="1752480" y="4648320"/>
            <a:ext cx="1425600" cy="1838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inkspell.jpg"/>
          <p:cNvPicPr/>
          <p:nvPr/>
        </p:nvPicPr>
        <p:blipFill>
          <a:blip r:embed="rId3"/>
          <a:stretch/>
        </p:blipFill>
        <p:spPr>
          <a:xfrm>
            <a:off x="3657600" y="4648320"/>
            <a:ext cx="1447920" cy="1858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inkdeath.jpg"/>
          <p:cNvPicPr/>
          <p:nvPr/>
        </p:nvPicPr>
        <p:blipFill>
          <a:blip r:embed="rId4"/>
          <a:stretch/>
        </p:blipFill>
        <p:spPr>
          <a:xfrm>
            <a:off x="5562720" y="4648320"/>
            <a:ext cx="1477800" cy="186048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12" descr=""/>
          <p:cNvPicPr/>
          <p:nvPr/>
        </p:nvPicPr>
        <p:blipFill>
          <a:blip r:embed="rId5"/>
          <a:stretch/>
        </p:blipFill>
        <p:spPr>
          <a:xfrm>
            <a:off x="1627200" y="719280"/>
            <a:ext cx="588960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rj\Pictures\Microsoft Clip Organizer\j044158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3cddd"/>
                </a:solidFill>
                <a:uFillTx/>
                <a:latin typeface="Broadway"/>
              </a:rPr>
              <a:t>Eragon</a:t>
            </a:r>
            <a:r>
              <a:rPr b="0" lang="en-US" sz="4400" spc="-1" strike="noStrike">
                <a:solidFill>
                  <a:srgbClr val="93cddd"/>
                </a:solidFill>
                <a:latin typeface="Broadway"/>
              </a:rPr>
              <a:t> Se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Broadway"/>
              </a:rPr>
              <a:t>In Aagaesia, a fifteen-year-old boy of unknown lineage called </a:t>
            </a:r>
            <a:r>
              <a:rPr b="1" i="1" lang="en-US" sz="3200" spc="-1" strike="noStrike">
                <a:solidFill>
                  <a:srgbClr val="bfbfbf"/>
                </a:solidFill>
                <a:latin typeface="Broadway"/>
              </a:rPr>
              <a:t>Eragon</a:t>
            </a:r>
            <a:r>
              <a:rPr b="0" lang="en-US" sz="3200" spc="-1" strike="noStrike">
                <a:solidFill>
                  <a:srgbClr val="bfbfbf"/>
                </a:solidFill>
                <a:latin typeface="Broadway"/>
              </a:rPr>
              <a:t> finds a mysterious stone that weaves his life into an intricate tapestry of destiny, magic, and power, peopled with dragons, elves, and monster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Erag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76520" y="4952880"/>
            <a:ext cx="1163520" cy="1762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Eldes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00400" y="4952880"/>
            <a:ext cx="1184400" cy="1762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Brisingr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724280" y="4952880"/>
            <a:ext cx="1190880" cy="1762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http://t1.gstatic.com/images?q=tbn:OlEVcdENsw9MIM:http://img410.imageshack.us/img410/6879/eldunariws7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248520" y="4952880"/>
            <a:ext cx="1239840" cy="1722600"/>
          </a:xfrm>
          <a:prstGeom prst="rect">
            <a:avLst/>
          </a:prstGeom>
          <a:ln w="0">
            <a:noFill/>
          </a:ln>
        </p:spPr>
      </p:pic>
      <p:pic>
        <p:nvPicPr>
          <p:cNvPr id="60" name="Rectangle 8" descr=""/>
          <p:cNvPicPr/>
          <p:nvPr/>
        </p:nvPicPr>
        <p:blipFill>
          <a:blip r:embed="rId10"/>
          <a:stretch/>
        </p:blipFill>
        <p:spPr>
          <a:xfrm>
            <a:off x="1901880" y="4376880"/>
            <a:ext cx="5267160" cy="26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rj\Pictures\Microsoft Clip Organizer\j044158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3cddd"/>
                </a:solidFill>
                <a:latin typeface="Broadway"/>
              </a:rPr>
              <a:t>The Witc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Broadway"/>
              </a:rPr>
              <a:t>A young boy and his Norwegian grandmother, who is an expert on </a:t>
            </a:r>
            <a:r>
              <a:rPr b="1" i="1" lang="en-US" sz="3600" spc="-1" strike="noStrike">
                <a:solidFill>
                  <a:srgbClr val="bfbfbf"/>
                </a:solidFill>
                <a:latin typeface="Broadway"/>
              </a:rPr>
              <a:t>witches</a:t>
            </a:r>
            <a:r>
              <a:rPr b="0" lang="en-US" sz="3600" spc="-1" strike="noStrike">
                <a:solidFill>
                  <a:srgbClr val="bfbfbf"/>
                </a:solidFill>
                <a:latin typeface="Broadway"/>
              </a:rPr>
              <a:t>, together foil a </a:t>
            </a:r>
            <a:r>
              <a:rPr b="1" i="1" lang="en-US" sz="3600" spc="-1" strike="noStrike">
                <a:solidFill>
                  <a:srgbClr val="bfbfbf"/>
                </a:solidFill>
                <a:latin typeface="Broadway"/>
              </a:rPr>
              <a:t>witches</a:t>
            </a:r>
            <a:r>
              <a:rPr b="0" lang="en-US" sz="3600" spc="-1" strike="noStrike">
                <a:solidFill>
                  <a:srgbClr val="bfbfbf"/>
                </a:solidFill>
                <a:latin typeface="Broadway"/>
              </a:rPr>
              <a:t>' plot to destroy </a:t>
            </a:r>
            <a:r>
              <a:rPr b="1" i="1" lang="en-US" sz="3600" spc="-1" strike="noStrike">
                <a:solidFill>
                  <a:srgbClr val="bfbfbf"/>
                </a:solidFill>
                <a:latin typeface="Broadway"/>
              </a:rPr>
              <a:t>the</a:t>
            </a:r>
            <a:r>
              <a:rPr b="0" lang="en-US" sz="3600" spc="-1" strike="noStrike">
                <a:solidFill>
                  <a:srgbClr val="bfbfbf"/>
                </a:solidFill>
                <a:latin typeface="Broadway"/>
              </a:rPr>
              <a:t> world's children by turning them into mice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286000" y="2690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contentcafe2.btol.com/ContentCafe/jacket.aspx?UserID=ebsco-test&amp;Password=ebsco-test&amp;Return=T&amp;Type=L&amp;Value=9780374384579"/>
          <p:cNvPicPr/>
          <p:nvPr/>
        </p:nvPicPr>
        <p:blipFill>
          <a:blip r:embed="rId2"/>
          <a:stretch/>
        </p:blipFill>
        <p:spPr>
          <a:xfrm>
            <a:off x="4952880" y="4495680"/>
            <a:ext cx="1505160" cy="2229120"/>
          </a:xfrm>
          <a:prstGeom prst="rect">
            <a:avLst/>
          </a:prstGeom>
          <a:ln w="0">
            <a:noFill/>
          </a:ln>
        </p:spPr>
      </p:pic>
      <p:pic>
        <p:nvPicPr>
          <p:cNvPr id="66" name="Rectangle 6" descr=""/>
          <p:cNvPicPr/>
          <p:nvPr/>
        </p:nvPicPr>
        <p:blipFill>
          <a:blip r:embed="rId3"/>
          <a:stretch/>
        </p:blipFill>
        <p:spPr>
          <a:xfrm>
            <a:off x="487440" y="5218200"/>
            <a:ext cx="459720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rj\Pictures\Microsoft Clip Organizer\j044158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3cddd"/>
                </a:solidFill>
                <a:latin typeface="Broadway"/>
              </a:rPr>
              <a:t>The Lightning Thie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Broadway"/>
              </a:rPr>
              <a:t>After learning that the father he never knew is Poseidon, God of </a:t>
            </a:r>
            <a:r>
              <a:rPr b="1" i="1" lang="en-US" sz="3200" spc="-1" strike="noStrike">
                <a:solidFill>
                  <a:srgbClr val="bfbfbf"/>
                </a:solidFill>
                <a:latin typeface="Broadway"/>
              </a:rPr>
              <a:t>the</a:t>
            </a:r>
            <a:r>
              <a:rPr b="0" lang="en-US" sz="3200" spc="-1" strike="noStrike">
                <a:solidFill>
                  <a:srgbClr val="bfbfbf"/>
                </a:solidFill>
                <a:latin typeface="Broadway"/>
              </a:rPr>
              <a:t> Sea, Percy Jackson is transferred from boarding school to Camp Half-Blood, a summer camp for demigods, and becomes involved in a quest to prevent a war between </a:t>
            </a:r>
            <a:r>
              <a:rPr b="1" i="1" lang="en-US" sz="3200" spc="-1" strike="noStrike">
                <a:solidFill>
                  <a:srgbClr val="bfbfbf"/>
                </a:solidFill>
                <a:latin typeface="Broadway"/>
              </a:rPr>
              <a:t>the </a:t>
            </a:r>
            <a:r>
              <a:rPr b="0" lang="en-US" sz="3200" spc="-1" strike="noStrike">
                <a:solidFill>
                  <a:srgbClr val="bfbfbf"/>
                </a:solidFill>
                <a:latin typeface="Broadway"/>
              </a:rPr>
              <a:t>god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http://contentcafe2.btol.com/ContentCafe/jacket.aspx?UserID=ebsco-test&amp;Password=ebsco-test&amp;Return=T&amp;Type=L&amp;Value=9780786838653"/>
          <p:cNvPicPr/>
          <p:nvPr/>
        </p:nvPicPr>
        <p:blipFill>
          <a:blip r:embed="rId2"/>
          <a:stretch/>
        </p:blipFill>
        <p:spPr>
          <a:xfrm>
            <a:off x="1219320" y="5257800"/>
            <a:ext cx="1042920" cy="1523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http://t0.gstatic.com/images?q=tbn:ya-QVvcL2Vp2qM:http://www.rickriordan.com/SeaofMonsters_painting%2520(2)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90920" y="5257800"/>
            <a:ext cx="1015920" cy="1523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t3.gstatic.com/images?q=tbn:qL4rFaW8NrsRrM:http://jennifermorrill.files.wordpress.com/2009/06/titans-curse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62520" y="5257800"/>
            <a:ext cx="990360" cy="1523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http://t1.gstatic.com/images?q=tbn:ngwBifUpAUpq5M:http://ecx.images-amazon.com/images/I/51GEte8dnxL._SL500_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57800" y="5245200"/>
            <a:ext cx="1015920" cy="1536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http://t2.gstatic.com/images?q=tbn:8tfOuwjnU_1mdM:http://childrensbooksforparents.com/books/2009/06/the-last-olympian.jpg"/>
          <p:cNvPicPr/>
          <p:nvPr/>
        </p:nvPicPr>
        <p:blipFill>
          <a:blip r:embed="rId9"/>
          <a:stretch/>
        </p:blipFill>
        <p:spPr>
          <a:xfrm>
            <a:off x="6629400" y="5238720"/>
            <a:ext cx="990720" cy="154296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9" descr=""/>
          <p:cNvPicPr/>
          <p:nvPr/>
        </p:nvPicPr>
        <p:blipFill>
          <a:blip r:embed="rId10"/>
          <a:stretch/>
        </p:blipFill>
        <p:spPr>
          <a:xfrm>
            <a:off x="1889280" y="5748480"/>
            <a:ext cx="508464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Users\rj\Pictures\Microsoft Clip Organizer\j044158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3cddd"/>
                </a:solidFill>
                <a:latin typeface="Broadway"/>
              </a:rPr>
              <a:t>The Thief L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bfbfbf"/>
                </a:solidFill>
                <a:latin typeface="Broadway"/>
              </a:rPr>
              <a:t>Two brothers, having run away from the aunt who plans to adopt the younger one, are sought by a detective hired by their aunt, but they have found shelter with -- and the protection of -- Venice's "Thief Lord."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contentcafe2.btol.com/ContentCafe/jacket.aspx?UserID=ebsco-test&amp;Password=ebsco-test&amp;Return=T&amp;Type=L&amp;Value=9780439404372"/>
          <p:cNvPicPr/>
          <p:nvPr/>
        </p:nvPicPr>
        <p:blipFill>
          <a:blip r:embed="rId2"/>
          <a:stretch/>
        </p:blipFill>
        <p:spPr>
          <a:xfrm>
            <a:off x="3657600" y="4648320"/>
            <a:ext cx="1411200" cy="213336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5" descr=""/>
          <p:cNvPicPr/>
          <p:nvPr/>
        </p:nvPicPr>
        <p:blipFill>
          <a:blip r:embed="rId3"/>
          <a:stretch/>
        </p:blipFill>
        <p:spPr>
          <a:xfrm>
            <a:off x="1627200" y="871560"/>
            <a:ext cx="588960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20:13:00Z</dcterms:created>
  <dc:creator>rj</dc:creator>
  <dc:description/>
  <dc:language>en-US</dc:language>
  <cp:lastModifiedBy>ray</cp:lastModifiedBy>
  <dcterms:modified xsi:type="dcterms:W3CDTF">2010-01-20T23:29:16Z</dcterms:modified>
  <cp:revision>209</cp:revision>
  <dc:subject/>
  <dc:title>Book Hook</dc:title>
</cp:coreProperties>
</file>