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7CC-ED2D-4A95-8353-F2C3BCD3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037-D949-455A-9728-44B4885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3E8-2479-49BA-A648-15D6688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304-7C78-4B14-9AA5-D56E2506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BDF-29AD-496D-B4DD-B719F636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7C9-9DCE-4DC6-A2F8-AEC9D93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C17-EE7D-4364-A503-2D8898A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695-DD10-4C45-8095-EF46CF8E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304-18EF-4F33-8AFE-5BD32AF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8E7-9183-4D84-9710-70E5DC9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E6F-614E-4517-B9B6-90EF8E4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1DD-B2DE-4CCC-AFB1-B8A543F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850A-17A5-479D-BD87-17A6DF1BA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 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ay</cp:lastModifiedBy>
  <dcterms:modified xsi:type="dcterms:W3CDTF">2010-01-20T23:29:16Z</dcterms:modified>
  <cp:revision>209</cp:revision>
  <dc:subject/>
  <dc:title>Book Hook</dc:title>
</cp:coreProperties>
</file>