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94D-16D6-4BA0-9C19-2F6213A5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6D6-9B06-47BA-AB8B-7D5DE702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586-8875-430C-93C8-4B984BFE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80E-94BB-4FB1-8B2F-6A9FDBE3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5CC-EF6F-4A84-BE89-53426A1E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0BA-D6C5-41D0-8AA5-7DAE6F9F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607-92F2-4123-B68D-4674EFE8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336-11EC-4DD6-98F7-DB1569DD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F88-317C-4C62-AEF1-69691F9F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61C-E803-48E7-959D-2DC949E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4CB-9287-46C8-B5D9-65211F41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1F7-AD46-470D-B040-AE783EF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6464-375B-4CBD-8FBB-2281A7DAF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2:02:06Z</dcterms:created>
  <dc:creator>ray</dc:creator>
  <dc:description/>
  <dc:language>en-US</dc:language>
  <cp:lastModifiedBy>ray</cp:lastModifiedBy>
  <dcterms:modified xsi:type="dcterms:W3CDTF">2009-12-17T22:21:36Z</dcterms:modified>
  <cp:revision>2</cp:revision>
  <dc:subject/>
  <dc:title>Books To Read</dc:title>
</cp:coreProperties>
</file>