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49B-3092-4D7A-9E64-A3436758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7BF-0A3B-47EF-ADB6-685E1AD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B4D-84A0-4330-8589-C0111C44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5E1-F568-4F25-B333-CAFDF23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CA7-3367-49DE-A3FB-18E1AE1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B2F-CB38-4C3B-9835-1697519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82A-6B26-4D4F-92A5-570C93E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55D-476D-49CB-AABA-D68F8864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57F-7603-41F5-B32F-BA4B529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723-BD15-4B53-BF8B-F39E736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F32-39C1-4964-ADF8-0507D29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90E-3582-4D90-9AC9-6953967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819-25AC-4629-9CAF-0D00FD48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2:02:06Z</dcterms:created>
  <dc:creator>ray</dc:creator>
  <dc:description/>
  <dc:language>en-US</dc:language>
  <cp:lastModifiedBy>ray</cp:lastModifiedBy>
  <dcterms:modified xsi:type="dcterms:W3CDTF">2009-12-17T22:21:36Z</dcterms:modified>
  <cp:revision>2</cp:revision>
  <dc:subject/>
  <dc:title>Books To Read</dc:title>
</cp:coreProperties>
</file>