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080C9-FF79-474B-BC5A-2C04F4A31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2FAA9-7C65-40CF-9817-7B1839909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74240-3852-4EDC-B785-29D8863EC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D2299-FAF6-408F-B843-A1EB06405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BA3D4-8D8F-4413-842E-757386D0F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178FA-3CBA-40E1-ABF3-F2BBC31B5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D55DB-F7C6-4C68-96AB-8C7B1DA20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95878-7F1E-43DE-9A03-523F9A8CF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5B548-B42F-4DB5-B880-659DEB126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7B3EE-FBAA-4C3C-8D35-802C33866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2DC76-FB4A-4808-83D6-4E0DA84E1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3145D-D7F5-43E4-967F-E92A30C9F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9C656-5D5B-4D45-897D-F35E07CA09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oks To Re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rn Fantas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7T22:02:06Z</dcterms:created>
  <dc:creator>ray</dc:creator>
  <dc:description/>
  <dc:language>en-US</dc:language>
  <cp:lastModifiedBy>ray</cp:lastModifiedBy>
  <dcterms:modified xsi:type="dcterms:W3CDTF">2009-12-17T22:21:36Z</dcterms:modified>
  <cp:revision>2</cp:revision>
  <dc:subject/>
  <dc:title>Books To Read</dc:title>
</cp:coreProperties>
</file>