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4F0-3889-4098-923C-1C40D218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858-1AF4-4199-919A-5A897DB6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BC1-B1A1-43A7-A5B2-62918A09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F30-8A86-44C8-BE0E-FA2F8D0A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F39-AF03-4AA4-99FE-CB6E414B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37A-7D26-41F2-9A6C-B921AA1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ACD-A953-48ED-9324-28E9C98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447-7770-477F-82B9-FFF9FED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F0E-FCE9-4C4A-95DD-61140E42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AA7-FBE7-4E19-BED5-A367AAD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2B8-6214-4CC5-85D3-1873E5B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5B7-2A71-4BF0-BB60-DEAFB45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E8F-75BC-4C13-8FA3-D3AE333F1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2:02:06Z</dcterms:created>
  <dc:creator>ray</dc:creator>
  <dc:description/>
  <dc:language>en-US</dc:language>
  <cp:lastModifiedBy>ray</cp:lastModifiedBy>
  <dcterms:modified xsi:type="dcterms:W3CDTF">2009-12-17T22:21:36Z</dcterms:modified>
  <cp:revision>2</cp:revision>
  <dc:subject/>
  <dc:title>Books To Read</dc:title>
</cp:coreProperties>
</file>