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85F-B99D-4DB5-8C6D-03A8B624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207-BEEC-4423-8175-56B1AFB6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61C-4DF2-4684-BDBB-FC74572E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1CC5-FB0E-41A2-B204-59A7EA80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BB8-ECA1-493C-AB64-757CE229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7F2-C726-41C4-A9E6-3404AF38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C44-B638-4040-86B9-B59041B7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D4D-5B28-49C0-8717-778C2D17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A00-082E-402B-9D4B-A59E3FCF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43E-01B2-48E9-A53F-D4631915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775-D859-462D-B423-2A29CC5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57A-9CA4-43A1-96E4-8B745FB0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A1BD-9579-4B8B-A396-76434B3EA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lagaesia.com/eragon.htm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alagaesia.com/eldest.htm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www.alagaesia.com/brisingr.htm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images.google.com/imgres?imgurl=http://img410.imageshack.us/img410/6879/eldunariws7.jpg&amp;imgrefurl=http://www.ataricommunity.com/forums/showthread.php?t=668780&amp;usg=__2Uc2vREYWANVV2TZQ8xL6Jz6sDE=&amp;h=418&amp;w=300&amp;sz=48&amp;hl=en&amp;start=4&amp;um=1&amp;tbnid=OlEVcdENsw9MIM:&amp;tbnh=125&amp;tbnw=90&amp;prev=/images?q=eragon+series&amp;hl=en&amp;rls=com.microsoft:en-us:IE-SearchBox&amp;rlz=1I7GPEA_enUS287&amp;sa=N&amp;um=1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rickriordan.com/SeaofMonsters_painting%20(2).jpg&amp;imgrefurl=http://5-squared.blogspot.com/2009/04/sea-of-monsters-by-rick-riordan.html&amp;usg=__5K5D4dKEnZer-AtCCNQ6j40dlCU=&amp;h=825&amp;w=552&amp;sz=73&amp;hl=en&amp;start=3&amp;um=1&amp;tbnid=ya-QVvcL2Vp2qM:&amp;tbnh=144&amp;tbnw=96&amp;prev=/images?q=the+lightning+thief+series&amp;hl=en&amp;rls=com.microsoft:en-us:IE-SearchBox&amp;rlz=1I7GPEA_enUS287&amp;sa=X&amp;um=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jennifermorrill.files.wordpress.com/2009/06/titans-curse.jpg&amp;imgrefurl=http://zenleaf.blogspot.com/2009/09/percy-jackson-books-3-4-by-rick-riordan.html&amp;usg=__U-eyL_a2TGPCUfPbUD8Fzlcmuv4=&amp;h=500&amp;w=345&amp;sz=75&amp;hl=en&amp;start=4&amp;um=1&amp;tbnid=qL4rFaW8NrsRrM:&amp;tbnh=130&amp;tbnw=90&amp;prev=/images?q=the+lightning+thief+series&amp;hl=en&amp;rls=com.microsoft:en-us:IE-SearchBox&amp;rlz=1I7GPEA_enUS287&amp;sa=X&amp;um=1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/imgres?imgurl=http://ecx.images-amazon.com/images/I/51GEte8dnxL._SL500_.jpg&amp;imgrefurl=http://bookaddictdiary.blogspot.com/2008_11_01_archive.html&amp;usg=__EkOtA_Vowdndi1rGRaC_rq38v7M=&amp;h=500&amp;w=331&amp;sz=38&amp;hl=en&amp;start=10&amp;um=1&amp;tbnid=ngwBifUpAUpq5M:&amp;tbnh=130&amp;tbnw=86&amp;prev=/images?q=the+lightning+thief+series&amp;hl=en&amp;rls=com.microsoft:en-us:IE-SearchBox&amp;rlz=1I7GPEA_enUS287&amp;sa=X&amp;um=1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3cddd"/>
                </a:solidFill>
                <a:latin typeface="Broadway"/>
              </a:rPr>
              <a:t>Books To Re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roadway"/>
              </a:rPr>
              <a:t>Modern Fantas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3cddd"/>
                </a:solidFill>
                <a:uFillTx/>
                <a:latin typeface="Broadway"/>
              </a:rPr>
              <a:t>Inkheart</a:t>
            </a: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 Tri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57200" y="914400"/>
            <a:ext cx="7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838080" y="1676520"/>
            <a:ext cx="784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523880" y="160020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oadway"/>
              </a:rPr>
              <a:t>Twelve-year-old Meggie learns that her father, who repairs and binds books for a living, can "read" fictional characters to life when one of those characters abducts them and tries to force him into service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inkheart.jpg"/>
          <p:cNvPicPr/>
          <p:nvPr/>
        </p:nvPicPr>
        <p:blipFill>
          <a:blip r:embed="rId2"/>
          <a:stretch/>
        </p:blipFill>
        <p:spPr>
          <a:xfrm>
            <a:off x="1752480" y="4648320"/>
            <a:ext cx="142560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inkspell.jpg"/>
          <p:cNvPicPr/>
          <p:nvPr/>
        </p:nvPicPr>
        <p:blipFill>
          <a:blip r:embed="rId3"/>
          <a:stretch/>
        </p:blipFill>
        <p:spPr>
          <a:xfrm>
            <a:off x="3657600" y="4648320"/>
            <a:ext cx="1447920" cy="185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inkdeath.jpg"/>
          <p:cNvPicPr/>
          <p:nvPr/>
        </p:nvPicPr>
        <p:blipFill>
          <a:blip r:embed="rId4"/>
          <a:stretch/>
        </p:blipFill>
        <p:spPr>
          <a:xfrm>
            <a:off x="5562720" y="4648320"/>
            <a:ext cx="1477800" cy="18604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12" descr=""/>
          <p:cNvPicPr/>
          <p:nvPr/>
        </p:nvPicPr>
        <p:blipFill>
          <a:blip r:embed="rId5"/>
          <a:stretch/>
        </p:blipFill>
        <p:spPr>
          <a:xfrm>
            <a:off x="1627200" y="719280"/>
            <a:ext cx="58896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3cddd"/>
                </a:solidFill>
                <a:uFillTx/>
                <a:latin typeface="Broadway"/>
              </a:rPr>
              <a:t>Eragon</a:t>
            </a: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 Se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In Aagaesia, a fifteen-year-old boy of unknown lineage called </a:t>
            </a:r>
            <a:r>
              <a:rPr b="1" i="1" lang="en-US" sz="3200" spc="-1" strike="noStrike">
                <a:solidFill>
                  <a:srgbClr val="ff0000"/>
                </a:solidFill>
                <a:latin typeface="Broadway"/>
              </a:rPr>
              <a:t>Eragon</a:t>
            </a: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 finds a mysterious stone that weaves his life into an intricate tapestry of destiny, magic, and power, peopled with dragons, elves, and monster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rag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4952880"/>
            <a:ext cx="1163520" cy="1762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Eldes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952880"/>
            <a:ext cx="1184400" cy="176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Brising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24280" y="4952880"/>
            <a:ext cx="1190880" cy="176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t1.gstatic.com/images?q=tbn:OlEVcdENsw9MIM:http://img410.imageshack.us/img410/6879/eldunariws7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4952880"/>
            <a:ext cx="1239840" cy="17226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8" descr=""/>
          <p:cNvPicPr/>
          <p:nvPr/>
        </p:nvPicPr>
        <p:blipFill>
          <a:blip r:embed="rId10"/>
          <a:stretch/>
        </p:blipFill>
        <p:spPr>
          <a:xfrm>
            <a:off x="1901880" y="4376880"/>
            <a:ext cx="526716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Wit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roadway"/>
              </a:rPr>
              <a:t>A young boy and his Norwegian grandmother, who is an expert on </a:t>
            </a:r>
            <a:r>
              <a:rPr b="1" i="1" lang="en-US" sz="3600" spc="-1" strike="noStrike">
                <a:solidFill>
                  <a:srgbClr val="ff0000"/>
                </a:solidFill>
                <a:latin typeface="Broadway"/>
              </a:rPr>
              <a:t>witches</a:t>
            </a:r>
            <a:r>
              <a:rPr b="0" lang="en-US" sz="3600" spc="-1" strike="noStrike">
                <a:solidFill>
                  <a:srgbClr val="ff0000"/>
                </a:solidFill>
                <a:latin typeface="Broadway"/>
              </a:rPr>
              <a:t>, together foil a </a:t>
            </a:r>
            <a:r>
              <a:rPr b="1" i="1" lang="en-US" sz="3600" spc="-1" strike="noStrike">
                <a:solidFill>
                  <a:srgbClr val="ff0000"/>
                </a:solidFill>
                <a:latin typeface="Broadway"/>
              </a:rPr>
              <a:t>witches</a:t>
            </a:r>
            <a:r>
              <a:rPr b="0" lang="en-US" sz="3600" spc="-1" strike="noStrike">
                <a:solidFill>
                  <a:srgbClr val="ff0000"/>
                </a:solidFill>
                <a:latin typeface="Broadway"/>
              </a:rPr>
              <a:t>' plot to destroy </a:t>
            </a:r>
            <a:r>
              <a:rPr b="1" i="1" lang="en-US" sz="3600" spc="-1" strike="noStrike">
                <a:solidFill>
                  <a:srgbClr val="ff0000"/>
                </a:solidFill>
                <a:latin typeface="Broadway"/>
              </a:rPr>
              <a:t>the</a:t>
            </a:r>
            <a:r>
              <a:rPr b="0" lang="en-US" sz="3600" spc="-1" strike="noStrike">
                <a:solidFill>
                  <a:srgbClr val="ff0000"/>
                </a:solidFill>
                <a:latin typeface="Broadway"/>
              </a:rPr>
              <a:t> world's children by turning them into mic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286000" y="269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contentcafe2.btol.com/ContentCafe/jacket.aspx?UserID=ebsco-test&amp;Password=ebsco-test&amp;Return=T&amp;Type=L&amp;Value=9780374384579"/>
          <p:cNvPicPr/>
          <p:nvPr/>
        </p:nvPicPr>
        <p:blipFill>
          <a:blip r:embed="rId2"/>
          <a:stretch/>
        </p:blipFill>
        <p:spPr>
          <a:xfrm>
            <a:off x="4952880" y="4495680"/>
            <a:ext cx="1505160" cy="222912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6" descr=""/>
          <p:cNvPicPr/>
          <p:nvPr/>
        </p:nvPicPr>
        <p:blipFill>
          <a:blip r:embed="rId3"/>
          <a:stretch/>
        </p:blipFill>
        <p:spPr>
          <a:xfrm>
            <a:off x="487440" y="5218200"/>
            <a:ext cx="4597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Lightning Thi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After learning that the father he never knew is Poseidon, God of </a:t>
            </a:r>
            <a:r>
              <a:rPr b="1" i="1" lang="en-US" sz="3200" spc="-1" strike="noStrike">
                <a:solidFill>
                  <a:srgbClr val="ff0000"/>
                </a:solidFill>
                <a:latin typeface="Broadway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 Sea, Percy Jackson is transferred from boarding school to Camp Half-Blood, a summer camp for demigods, and becomes involved in a quest to prevent a war between </a:t>
            </a:r>
            <a:r>
              <a:rPr b="1" i="1" lang="en-US" sz="3200" spc="-1" strike="noStrike">
                <a:solidFill>
                  <a:srgbClr val="ff0000"/>
                </a:solidFill>
                <a:latin typeface="Broadway"/>
              </a:rPr>
              <a:t>the  </a:t>
            </a: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god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contentcafe2.btol.com/ContentCafe/jacket.aspx?UserID=ebsco-test&amp;Password=ebsco-test&amp;Return=T&amp;Type=L&amp;Value=9780786838653"/>
          <p:cNvPicPr/>
          <p:nvPr/>
        </p:nvPicPr>
        <p:blipFill>
          <a:blip r:embed="rId2"/>
          <a:stretch/>
        </p:blipFill>
        <p:spPr>
          <a:xfrm>
            <a:off x="1219320" y="5257800"/>
            <a:ext cx="104292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t0.gstatic.com/images?q=tbn:ya-QVvcL2Vp2qM:http://www.rickriordan.com/SeaofMonsters_painting%2520(2)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525780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t3.gstatic.com/images?q=tbn:qL4rFaW8NrsRrM:http://jennifermorrill.files.wordpress.com/2009/06/titans-curs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5257800"/>
            <a:ext cx="99036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t1.gstatic.com/images?q=tbn:ngwBifUpAUpq5M:http://ecx.images-amazon.com/images/I/51GEte8dnxL._SL500_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5245200"/>
            <a:ext cx="1015920" cy="1536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t2.gstatic.com/images?q=tbn:8tfOuwjnU_1mdM:http://childrensbooksforparents.com/books/2009/06/the-last-olympian.jpg"/>
          <p:cNvPicPr/>
          <p:nvPr/>
        </p:nvPicPr>
        <p:blipFill>
          <a:blip r:embed="rId9"/>
          <a:stretch/>
        </p:blipFill>
        <p:spPr>
          <a:xfrm>
            <a:off x="6629400" y="5238720"/>
            <a:ext cx="990720" cy="154296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9" descr=""/>
          <p:cNvPicPr/>
          <p:nvPr/>
        </p:nvPicPr>
        <p:blipFill>
          <a:blip r:embed="rId10"/>
          <a:stretch/>
        </p:blipFill>
        <p:spPr>
          <a:xfrm>
            <a:off x="1889280" y="5748480"/>
            <a:ext cx="5084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Thief L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Two brothers, having run away from the aunt who plans to adopt the younger one, are sought by a detective hired by their aunt, but they have found shelter with -- and the protection of -- Venice's "Thief Lord.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contentcafe2.btol.com/ContentCafe/jacket.aspx?UserID=ebsco-test&amp;Password=ebsco-test&amp;Return=T&amp;Type=L&amp;Value=9780439404372"/>
          <p:cNvPicPr/>
          <p:nvPr/>
        </p:nvPicPr>
        <p:blipFill>
          <a:blip r:embed="rId2"/>
          <a:stretch/>
        </p:blipFill>
        <p:spPr>
          <a:xfrm>
            <a:off x="3657600" y="4648320"/>
            <a:ext cx="1411200" cy="213336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5" descr=""/>
          <p:cNvPicPr/>
          <p:nvPr/>
        </p:nvPicPr>
        <p:blipFill>
          <a:blip r:embed="rId3"/>
          <a:stretch/>
        </p:blipFill>
        <p:spPr>
          <a:xfrm>
            <a:off x="1627200" y="871560"/>
            <a:ext cx="58896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0:13:00Z</dcterms:created>
  <dc:creator>rj</dc:creator>
  <dc:description/>
  <dc:language>en-US</dc:language>
  <cp:lastModifiedBy>rj</cp:lastModifiedBy>
  <dcterms:modified xsi:type="dcterms:W3CDTF">2010-01-22T19:56:04Z</dcterms:modified>
  <cp:revision>210</cp:revision>
  <dc:subject/>
  <dc:title>Book Hook</dc:title>
</cp:coreProperties>
</file>