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B3C-EA7E-496F-8E3D-3ED1462B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1EA-C791-48F6-A3AF-D88E360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65A-9368-4EED-841E-8FC8A10D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62D-B8AC-493C-BE0F-072CA57E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BDE-2CF0-44EE-A940-70AAFA2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7F4-224C-448A-8944-F8B25DB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146-839D-46AE-8B49-C183BA5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270-70F9-48C2-93BF-1EB9FF5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589-D869-428C-B1AE-680A48BC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017-D685-4FAB-A7A5-B08FB42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295-918B-45D8-A420-5E73796A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50E-D685-4A46-9CAF-FDA1B00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279-D06F-4FB7-8254-52E5ABAC7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ff0000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ff0000"/>
                </a:solidFill>
                <a:latin typeface="Broadway"/>
              </a:rPr>
              <a:t>the  </a:t>
            </a: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j</cp:lastModifiedBy>
  <dcterms:modified xsi:type="dcterms:W3CDTF">2010-01-22T19:56:04Z</dcterms:modified>
  <cp:revision>210</cp:revision>
  <dc:subject/>
  <dc:title>Book Hook</dc:title>
</cp:coreProperties>
</file>