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66C7-666D-48DD-9F74-053225FD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5D00-4C8A-4453-9411-144141F4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8BBD-E846-49F5-A39D-6D868830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50FC-0A1E-41EA-9702-08053C01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6F05-3C90-412C-AB05-8BBFA6C7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5AD5-0C85-4A0E-9C72-FE2E9756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9E94-3E7F-4840-A45E-329FD31E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EAE3-74B1-41E6-8A99-A5A0F289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998C-EB1A-426A-A3FB-B6FBB739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06F9-3069-4F3C-964A-43066CEB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B4DB-0A32-44B6-948E-E225B3D6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3AF7-897F-49BB-BC38-B5BAF0F1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6738-1A1B-42A6-B8F6-54255E306A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lagaesia.com/eragon.htm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alagaesia.com/eldest.htm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www.alagaesia.com/brisingr.htm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images.google.com/imgres?imgurl=http://img410.imageshack.us/img410/6879/eldunariws7.jpg&amp;imgrefurl=http://www.ataricommunity.com/forums/showthread.php?t=668780&amp;usg=__2Uc2vREYWANVV2TZQ8xL6Jz6sDE=&amp;h=418&amp;w=300&amp;sz=48&amp;hl=en&amp;start=4&amp;um=1&amp;tbnid=OlEVcdENsw9MIM:&amp;tbnh=125&amp;tbnw=90&amp;prev=/images?q=eragon+series&amp;hl=en&amp;rls=com.microsoft:en-us:IE-SearchBox&amp;rlz=1I7GPEA_enUS287&amp;sa=N&amp;um=1" TargetMode="External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/imgres?imgurl=http://www.rickriordan.com/SeaofMonsters_painting%20(2).jpg&amp;imgrefurl=http://5-squared.blogspot.com/2009/04/sea-of-monsters-by-rick-riordan.html&amp;usg=__5K5D4dKEnZer-AtCCNQ6j40dlCU=&amp;h=825&amp;w=552&amp;sz=73&amp;hl=en&amp;start=3&amp;um=1&amp;tbnid=ya-QVvcL2Vp2qM:&amp;tbnh=144&amp;tbnw=96&amp;prev=/images?q=the+lightning+thief+series&amp;hl=en&amp;rls=com.microsoft:en-us:IE-SearchBox&amp;rlz=1I7GPEA_enUS287&amp;sa=X&amp;um=1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m/imgres?imgurl=http://jennifermorrill.files.wordpress.com/2009/06/titans-curse.jpg&amp;imgrefurl=http://zenleaf.blogspot.com/2009/09/percy-jackson-books-3-4-by-rick-riordan.html&amp;usg=__U-eyL_a2TGPCUfPbUD8Fzlcmuv4=&amp;h=500&amp;w=345&amp;sz=75&amp;hl=en&amp;start=4&amp;um=1&amp;tbnid=qL4rFaW8NrsRrM:&amp;tbnh=130&amp;tbnw=90&amp;prev=/images?q=the+lightning+thief+series&amp;hl=en&amp;rls=com.microsoft:en-us:IE-SearchBox&amp;rlz=1I7GPEA_enUS287&amp;sa=X&amp;um=1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images.google.com/imgres?imgurl=http://ecx.images-amazon.com/images/I/51GEte8dnxL._SL500_.jpg&amp;imgrefurl=http://bookaddictdiary.blogspot.com/2008_11_01_archive.html&amp;usg=__EkOtA_Vowdndi1rGRaC_rq38v7M=&amp;h=500&amp;w=331&amp;sz=38&amp;hl=en&amp;start=10&amp;um=1&amp;tbnid=ngwBifUpAUpq5M:&amp;tbnh=130&amp;tbnw=86&amp;prev=/images?q=the+lightning+thief+series&amp;hl=en&amp;rls=com.microsoft:en-us:IE-SearchBox&amp;rlz=1I7GPEA_enUS287&amp;sa=X&amp;um=1" TargetMode="External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3cddd"/>
                </a:solidFill>
                <a:latin typeface="Broadway"/>
              </a:rPr>
              <a:t>Books To Rea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roadway"/>
              </a:rPr>
              <a:t>Modern Fantas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3cddd"/>
                </a:solidFill>
                <a:uFillTx/>
                <a:latin typeface="Broadway"/>
              </a:rPr>
              <a:t>Inkheart</a:t>
            </a: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 Tri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457200" y="914400"/>
            <a:ext cx="76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838080" y="1676520"/>
            <a:ext cx="7848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523880" y="1600200"/>
            <a:ext cx="6172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oadway"/>
              </a:rPr>
              <a:t>Twelve-year-old Meggie learns that her father, who repairs and binds books for a living, can "read" fictional characters to life when one of those characters abducts them and tries to force him into service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inkheart.jpg"/>
          <p:cNvPicPr/>
          <p:nvPr/>
        </p:nvPicPr>
        <p:blipFill>
          <a:blip r:embed="rId2"/>
          <a:stretch/>
        </p:blipFill>
        <p:spPr>
          <a:xfrm>
            <a:off x="1752480" y="4648320"/>
            <a:ext cx="142560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inkspell.jpg"/>
          <p:cNvPicPr/>
          <p:nvPr/>
        </p:nvPicPr>
        <p:blipFill>
          <a:blip r:embed="rId3"/>
          <a:stretch/>
        </p:blipFill>
        <p:spPr>
          <a:xfrm>
            <a:off x="3657600" y="4648320"/>
            <a:ext cx="1447920" cy="1858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inkdeath.jpg"/>
          <p:cNvPicPr/>
          <p:nvPr/>
        </p:nvPicPr>
        <p:blipFill>
          <a:blip r:embed="rId4"/>
          <a:stretch/>
        </p:blipFill>
        <p:spPr>
          <a:xfrm>
            <a:off x="5562720" y="4648320"/>
            <a:ext cx="1477800" cy="186048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12" descr=""/>
          <p:cNvPicPr/>
          <p:nvPr/>
        </p:nvPicPr>
        <p:blipFill>
          <a:blip r:embed="rId5"/>
          <a:stretch/>
        </p:blipFill>
        <p:spPr>
          <a:xfrm>
            <a:off x="1627200" y="719280"/>
            <a:ext cx="58896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3cddd"/>
                </a:solidFill>
                <a:uFillTx/>
                <a:latin typeface="Broadway"/>
              </a:rPr>
              <a:t>Eragon</a:t>
            </a: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 Se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oadway"/>
              </a:rPr>
              <a:t>In Aagaesia, a fifteen-year-old boy of unknown lineage called </a:t>
            </a:r>
            <a:r>
              <a:rPr b="1" i="1" lang="en-US" sz="3200" spc="-1" strike="noStrike">
                <a:solidFill>
                  <a:srgbClr val="ff0000"/>
                </a:solidFill>
                <a:latin typeface="Broadway"/>
              </a:rPr>
              <a:t>Eragon</a:t>
            </a:r>
            <a:r>
              <a:rPr b="0" lang="en-US" sz="3200" spc="-1" strike="noStrike">
                <a:solidFill>
                  <a:srgbClr val="ff0000"/>
                </a:solidFill>
                <a:latin typeface="Broadway"/>
              </a:rPr>
              <a:t> finds a mysterious stone that weaves his life into an intricate tapestry of destiny, magic, and power, peopled with dragons, elves, and monster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Erag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4952880"/>
            <a:ext cx="1163520" cy="1762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Eldes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0400" y="4952880"/>
            <a:ext cx="1184400" cy="1762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Brising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724280" y="4952880"/>
            <a:ext cx="1190880" cy="1762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t1.gstatic.com/images?q=tbn:OlEVcdENsw9MIM:http://img410.imageshack.us/img410/6879/eldunariws7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248520" y="4952880"/>
            <a:ext cx="1239840" cy="172260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8" descr=""/>
          <p:cNvPicPr/>
          <p:nvPr/>
        </p:nvPicPr>
        <p:blipFill>
          <a:blip r:embed="rId10"/>
          <a:stretch/>
        </p:blipFill>
        <p:spPr>
          <a:xfrm>
            <a:off x="1901880" y="4376880"/>
            <a:ext cx="5267160" cy="26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The Wit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roadway"/>
              </a:rPr>
              <a:t>A young boy and his Norwegian grandmother, who is an expert on </a:t>
            </a:r>
            <a:r>
              <a:rPr b="1" i="1" lang="en-US" sz="3600" spc="-1" strike="noStrike">
                <a:solidFill>
                  <a:srgbClr val="ff0000"/>
                </a:solidFill>
                <a:latin typeface="Broadway"/>
              </a:rPr>
              <a:t>witches</a:t>
            </a:r>
            <a:r>
              <a:rPr b="0" lang="en-US" sz="3600" spc="-1" strike="noStrike">
                <a:solidFill>
                  <a:srgbClr val="ff0000"/>
                </a:solidFill>
                <a:latin typeface="Broadway"/>
              </a:rPr>
              <a:t>, together foil a </a:t>
            </a:r>
            <a:r>
              <a:rPr b="1" i="1" lang="en-US" sz="3600" spc="-1" strike="noStrike">
                <a:solidFill>
                  <a:srgbClr val="ff0000"/>
                </a:solidFill>
                <a:latin typeface="Broadway"/>
              </a:rPr>
              <a:t>witches</a:t>
            </a:r>
            <a:r>
              <a:rPr b="0" lang="en-US" sz="3600" spc="-1" strike="noStrike">
                <a:solidFill>
                  <a:srgbClr val="ff0000"/>
                </a:solidFill>
                <a:latin typeface="Broadway"/>
              </a:rPr>
              <a:t>' plot to destroy </a:t>
            </a:r>
            <a:r>
              <a:rPr b="1" i="1" lang="en-US" sz="3600" spc="-1" strike="noStrike">
                <a:solidFill>
                  <a:srgbClr val="ff0000"/>
                </a:solidFill>
                <a:latin typeface="Broadway"/>
              </a:rPr>
              <a:t>the</a:t>
            </a:r>
            <a:r>
              <a:rPr b="0" lang="en-US" sz="3600" spc="-1" strike="noStrike">
                <a:solidFill>
                  <a:srgbClr val="ff0000"/>
                </a:solidFill>
                <a:latin typeface="Broadway"/>
              </a:rPr>
              <a:t> world's children by turning them into mice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286000" y="269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contentcafe2.btol.com/ContentCafe/jacket.aspx?UserID=ebsco-test&amp;Password=ebsco-test&amp;Return=T&amp;Type=L&amp;Value=9780374384579"/>
          <p:cNvPicPr/>
          <p:nvPr/>
        </p:nvPicPr>
        <p:blipFill>
          <a:blip r:embed="rId2"/>
          <a:stretch/>
        </p:blipFill>
        <p:spPr>
          <a:xfrm>
            <a:off x="4952880" y="4495680"/>
            <a:ext cx="1505160" cy="222912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6" descr=""/>
          <p:cNvPicPr/>
          <p:nvPr/>
        </p:nvPicPr>
        <p:blipFill>
          <a:blip r:embed="rId3"/>
          <a:stretch/>
        </p:blipFill>
        <p:spPr>
          <a:xfrm>
            <a:off x="487440" y="5218200"/>
            <a:ext cx="45972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The Lightning Thie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oadway"/>
              </a:rPr>
              <a:t>After learning that the father he never knew is Poseidon, God of </a:t>
            </a:r>
            <a:r>
              <a:rPr b="1" i="1" lang="en-US" sz="3200" spc="-1" strike="noStrike">
                <a:solidFill>
                  <a:srgbClr val="ff0000"/>
                </a:solidFill>
                <a:latin typeface="Broadway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Broadway"/>
              </a:rPr>
              <a:t> Sea, Percy Jackson is transferred from boarding school to Camp Half-Blood, a summer camp for demigods, and becomes involved in a quest to prevent a war between </a:t>
            </a:r>
            <a:r>
              <a:rPr b="1" i="1" lang="en-US" sz="3200" spc="-1" strike="noStrike">
                <a:solidFill>
                  <a:srgbClr val="ff0000"/>
                </a:solidFill>
                <a:latin typeface="Broadway"/>
              </a:rPr>
              <a:t>the  </a:t>
            </a:r>
            <a:r>
              <a:rPr b="0" lang="en-US" sz="3200" spc="-1" strike="noStrike">
                <a:solidFill>
                  <a:srgbClr val="ff0000"/>
                </a:solidFill>
                <a:latin typeface="Broadway"/>
              </a:rPr>
              <a:t>god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contentcafe2.btol.com/ContentCafe/jacket.aspx?UserID=ebsco-test&amp;Password=ebsco-test&amp;Return=T&amp;Type=L&amp;Value=9780786838653"/>
          <p:cNvPicPr/>
          <p:nvPr/>
        </p:nvPicPr>
        <p:blipFill>
          <a:blip r:embed="rId2"/>
          <a:stretch/>
        </p:blipFill>
        <p:spPr>
          <a:xfrm>
            <a:off x="1219320" y="5257800"/>
            <a:ext cx="1042920" cy="1523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t0.gstatic.com/images?q=tbn:ya-QVvcL2Vp2qM:http://www.rickriordan.com/SeaofMonsters_painting%2520(2)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0920" y="5257800"/>
            <a:ext cx="1015920" cy="1523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t3.gstatic.com/images?q=tbn:qL4rFaW8NrsRrM:http://jennifermorrill.files.wordpress.com/2009/06/titans-curs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62520" y="5257800"/>
            <a:ext cx="990360" cy="1523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://t1.gstatic.com/images?q=tbn:ngwBifUpAUpq5M:http://ecx.images-amazon.com/images/I/51GEte8dnxL._SL500_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57800" y="5245200"/>
            <a:ext cx="1015920" cy="1536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http://t2.gstatic.com/images?q=tbn:8tfOuwjnU_1mdM:http://childrensbooksforparents.com/books/2009/06/the-last-olympian.jpg"/>
          <p:cNvPicPr/>
          <p:nvPr/>
        </p:nvPicPr>
        <p:blipFill>
          <a:blip r:embed="rId9"/>
          <a:stretch/>
        </p:blipFill>
        <p:spPr>
          <a:xfrm>
            <a:off x="6629400" y="5238720"/>
            <a:ext cx="990720" cy="154296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9" descr=""/>
          <p:cNvPicPr/>
          <p:nvPr/>
        </p:nvPicPr>
        <p:blipFill>
          <a:blip r:embed="rId10"/>
          <a:stretch/>
        </p:blipFill>
        <p:spPr>
          <a:xfrm>
            <a:off x="1889280" y="5748480"/>
            <a:ext cx="508464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The Thief L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Broadway"/>
              </a:rPr>
              <a:t>Two brothers, having run away from the aunt who plans to adopt the younger one, are sought by a detective hired by their aunt, but they have found shelter with -- and the protection of -- Venice's "Thief Lord.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contentcafe2.btol.com/ContentCafe/jacket.aspx?UserID=ebsco-test&amp;Password=ebsco-test&amp;Return=T&amp;Type=L&amp;Value=9780439404372"/>
          <p:cNvPicPr/>
          <p:nvPr/>
        </p:nvPicPr>
        <p:blipFill>
          <a:blip r:embed="rId2"/>
          <a:stretch/>
        </p:blipFill>
        <p:spPr>
          <a:xfrm>
            <a:off x="3657600" y="4648320"/>
            <a:ext cx="1411200" cy="213336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5" descr=""/>
          <p:cNvPicPr/>
          <p:nvPr/>
        </p:nvPicPr>
        <p:blipFill>
          <a:blip r:embed="rId3"/>
          <a:stretch/>
        </p:blipFill>
        <p:spPr>
          <a:xfrm>
            <a:off x="1627200" y="871560"/>
            <a:ext cx="58896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20:13:00Z</dcterms:created>
  <dc:creator>rj</dc:creator>
  <dc:description/>
  <dc:language>en-US</dc:language>
  <cp:lastModifiedBy>rj</cp:lastModifiedBy>
  <dcterms:modified xsi:type="dcterms:W3CDTF">2010-01-22T19:56:04Z</dcterms:modified>
  <cp:revision>210</cp:revision>
  <dc:subject/>
  <dc:title>Book Hook</dc:title>
</cp:coreProperties>
</file>